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219456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D56-2805-4AB2-94BC-00EB5E54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6920" y="7679880"/>
            <a:ext cx="1975176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6920" y="19027440"/>
            <a:ext cx="1975176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581-1939-4E57-B2C1-2AB84EA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767988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17960" y="767988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1902744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17960" y="1902744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0EE-68FB-4829-A8B3-88E1844E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679880"/>
            <a:ext cx="635976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774920" y="7679880"/>
            <a:ext cx="635976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53280" y="7679880"/>
            <a:ext cx="635976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6920" y="19027440"/>
            <a:ext cx="635976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774920" y="19027440"/>
            <a:ext cx="635976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453280" y="19027440"/>
            <a:ext cx="635976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99A-3198-4F08-A4A6-2F0A8817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6920" y="7679880"/>
            <a:ext cx="1975176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EF3-E3F5-4D95-B4C7-EE1FE662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6920" y="7679880"/>
            <a:ext cx="19751760" cy="217249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464-7618-4025-A707-F74CC8B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6920" y="7679880"/>
            <a:ext cx="9638640" cy="217249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17960" y="7679880"/>
            <a:ext cx="9638640" cy="217249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427-C472-402D-B89F-F67FAD6F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B48-2F4E-475B-AD27-AAD756C5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6920" y="1317600"/>
            <a:ext cx="1975176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D1C-CD08-4E30-A42A-9F50FB8A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767988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17960" y="7679880"/>
            <a:ext cx="9638640" cy="217249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6920" y="1902744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98C-81EA-403D-992F-9A0D971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6920" y="7679880"/>
            <a:ext cx="9638640" cy="217249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17960" y="767988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17960" y="1902744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201-C720-48E9-9E71-3BF0A82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6920" y="767988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17960" y="7679880"/>
            <a:ext cx="963864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6920" y="19027440"/>
            <a:ext cx="19751760" cy="10362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4CA-D230-428B-8C3B-16A5A29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6920" y="1317600"/>
            <a:ext cx="19751760" cy="54864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6920" y="7679880"/>
            <a:ext cx="19751760" cy="2172492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2548080" indent="-98136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3919680" indent="-7844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96920" y="29976840"/>
            <a:ext cx="5121360" cy="22860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76840"/>
            <a:ext cx="6950160" cy="22860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76840"/>
            <a:ext cx="5121360" cy="22860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 algn="r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fld id="{DE7F67C9-4EBC-4968-ACA5-FE79F99A45AB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285840"/>
            <a:ext cx="21335760" cy="34480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0a0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476280"/>
            <a:ext cx="115826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" rIns="45000" tIns="-111600" bIns="-11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ecursive Adaptive Computations Using Interposition Visitors</a:t>
            </a:r>
            <a:br>
              <a:rPr sz="3600"/>
            </a:br>
            <a:r>
              <a:rPr b="0" lang="en-US" sz="3300" spc="-1" strike="noStrike">
                <a:solidFill>
                  <a:srgbClr val="ffffff"/>
                </a:solidFill>
                <a:latin typeface="Arial Unicode MS"/>
              </a:rPr>
              <a:t>Ahmed Abdelmeged and Karl Lieberherr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Unicode MS"/>
              </a:rPr>
              <a:t>College of Computer and Information Science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Unicode MS"/>
              </a:rPr>
              <a:t>Northeastern University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 Unicode MS"/>
              </a:rPr>
              <a:t>{mohsen,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eber}@ccs.neu.edu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3080" y="3772080"/>
            <a:ext cx="213357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" y="285840"/>
            <a:ext cx="21335760" cy="322516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2743200"/>
                <a:tab algn="l" pos="5486400"/>
                <a:tab algn="l" pos="822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46160"/>
            <a:ext cx="21690000" cy="3254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2743200"/>
                <a:tab algn="l" pos="5486400"/>
                <a:tab algn="l" pos="822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Northeastern logo"/>
          <p:cNvPicPr/>
          <p:nvPr/>
        </p:nvPicPr>
        <p:blipFill>
          <a:blip r:embed="rId1"/>
          <a:stretch/>
        </p:blipFill>
        <p:spPr>
          <a:xfrm>
            <a:off x="495360" y="476280"/>
            <a:ext cx="4267080" cy="20988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685800" y="7920000"/>
            <a:ext cx="11582280" cy="6213240"/>
            <a:chOff x="685800" y="7920000"/>
            <a:chExt cx="11582280" cy="6213240"/>
          </a:xfrm>
        </p:grpSpPr>
        <p:cxnSp>
          <p:nvCxnSpPr>
            <p:cNvPr id="48" name="_s2108"/>
            <p:cNvCxnSpPr>
              <a:stCxn id="49" idx="1"/>
              <a:endCxn id="50" idx="2"/>
            </p:cNvCxnSpPr>
            <p:nvPr/>
          </p:nvCxnSpPr>
          <p:spPr>
            <a:xfrm rot="10800000">
              <a:off x="6476760" y="11471040"/>
              <a:ext cx="827640" cy="221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106"/>
            <p:cNvCxnSpPr>
              <a:stCxn id="52" idx="1"/>
              <a:endCxn id="50" idx="2"/>
            </p:cNvCxnSpPr>
            <p:nvPr/>
          </p:nvCxnSpPr>
          <p:spPr>
            <a:xfrm rot="10800000">
              <a:off x="6476760" y="11470680"/>
              <a:ext cx="827640" cy="88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2099"/>
            <p:cNvCxnSpPr>
              <a:stCxn id="50" idx="1"/>
              <a:endCxn id="54" idx="2"/>
            </p:cNvCxnSpPr>
            <p:nvPr/>
          </p:nvCxnSpPr>
          <p:spPr>
            <a:xfrm rot="10800000">
              <a:off x="3167640" y="8808840"/>
              <a:ext cx="826920" cy="221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2098"/>
            <p:cNvCxnSpPr>
              <a:stCxn id="56" idx="1"/>
              <a:endCxn id="54" idx="2"/>
            </p:cNvCxnSpPr>
            <p:nvPr/>
          </p:nvCxnSpPr>
          <p:spPr>
            <a:xfrm rot="10800000">
              <a:off x="3167640" y="8808480"/>
              <a:ext cx="826920" cy="88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2094"/>
            <p:cNvSpPr/>
            <p:nvPr/>
          </p:nvSpPr>
          <p:spPr>
            <a:xfrm>
              <a:off x="685800" y="7920000"/>
              <a:ext cx="4964040" cy="88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ontainer (C1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apacity:50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95"/>
            <p:cNvSpPr/>
            <p:nvPr/>
          </p:nvSpPr>
          <p:spPr>
            <a:xfrm>
              <a:off x="3994200" y="9253440"/>
              <a:ext cx="4965480" cy="884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Element (E1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Weight: 1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96"/>
            <p:cNvSpPr/>
            <p:nvPr/>
          </p:nvSpPr>
          <p:spPr>
            <a:xfrm>
              <a:off x="3994200" y="10582200"/>
              <a:ext cx="4965480" cy="88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ontainer (C2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apacity: 15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105"/>
            <p:cNvSpPr/>
            <p:nvPr/>
          </p:nvSpPr>
          <p:spPr>
            <a:xfrm>
              <a:off x="7304040" y="11915640"/>
              <a:ext cx="4964040" cy="884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Element (E2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Weight: 1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107"/>
            <p:cNvSpPr/>
            <p:nvPr/>
          </p:nvSpPr>
          <p:spPr>
            <a:xfrm>
              <a:off x="7304040" y="13244400"/>
              <a:ext cx="4964040" cy="88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Element (E3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Weight: 1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807696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3400" y="944856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1074420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3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96080" y="120870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4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6080" y="134110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5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57" idx="6"/>
              <a:endCxn id="58" idx="2"/>
            </p:cNvCxnSpPr>
            <p:nvPr/>
          </p:nvCxnSpPr>
          <p:spPr>
            <a:xfrm>
              <a:off x="1600200" y="8343720"/>
              <a:ext cx="2743560" cy="1371960"/>
            </a:xfrm>
            <a:prstGeom prst="curvedConnector3">
              <a:avLst>
                <a:gd name="adj1" fmla="val 25026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6"/>
              <a:endCxn id="60" idx="2"/>
            </p:cNvCxnSpPr>
            <p:nvPr/>
          </p:nvCxnSpPr>
          <p:spPr>
            <a:xfrm>
              <a:off x="4876920" y="11010960"/>
              <a:ext cx="2819520" cy="1343160"/>
            </a:xfrm>
            <a:prstGeom prst="curvedConnector3">
              <a:avLst>
                <a:gd name="adj1" fmla="val 25015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0" idx="6"/>
              <a:endCxn id="61" idx="2"/>
            </p:cNvCxnSpPr>
            <p:nvPr/>
          </p:nvCxnSpPr>
          <p:spPr>
            <a:xfrm flipH="1">
              <a:off x="7696080" y="12353760"/>
              <a:ext cx="533880" cy="1324440"/>
            </a:xfrm>
            <a:prstGeom prst="curvedConnector5">
              <a:avLst>
                <a:gd name="adj1" fmla="val -337"/>
                <a:gd name="adj2" fmla="val 50027"/>
                <a:gd name="adj3" fmla="val 100337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58" idx="6"/>
              <a:endCxn id="59" idx="2"/>
            </p:cNvCxnSpPr>
            <p:nvPr/>
          </p:nvCxnSpPr>
          <p:spPr>
            <a:xfrm flipH="1">
              <a:off x="4343400" y="9715320"/>
              <a:ext cx="533880" cy="1296000"/>
            </a:xfrm>
            <a:prstGeom prst="curvedConnector5">
              <a:avLst>
                <a:gd name="adj1" fmla="val -337"/>
                <a:gd name="adj2" fmla="val 50013"/>
                <a:gd name="adj3" fmla="val 100337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1447920" y="1280160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28775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Visit metho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09480" y="4495680"/>
            <a:ext cx="10058400" cy="129564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Problem with visitor pattern</a:t>
            </a:r>
            <a:r>
              <a:rPr b="0" lang="en-US" sz="6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6477120"/>
            <a:ext cx="19659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How many containers carry more than their capacity?</a:t>
            </a:r>
            <a:r>
              <a:rPr b="0" lang="en-US" sz="6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35120" y="9601200"/>
            <a:ext cx="78483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Hint: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apacity checking needs to be done only “after” summing the weights of all childre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0" y="8001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772400" y="10667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8040" y="18059400"/>
            <a:ext cx="13412880" cy="129528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Problem with Adaptive Programming</a:t>
            </a:r>
            <a:r>
              <a:rPr b="0" lang="en-US" sz="6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20329560"/>
            <a:ext cx="11582280" cy="6213240"/>
            <a:chOff x="838080" y="20329560"/>
            <a:chExt cx="11582280" cy="6213240"/>
          </a:xfrm>
        </p:grpSpPr>
        <p:cxnSp>
          <p:nvCxnSpPr>
            <p:cNvPr id="75" name="_s2122"/>
            <p:cNvCxnSpPr>
              <a:stCxn id="76" idx="1"/>
              <a:endCxn id="77" idx="2"/>
            </p:cNvCxnSpPr>
            <p:nvPr/>
          </p:nvCxnSpPr>
          <p:spPr>
            <a:xfrm rot="10800000">
              <a:off x="6629040" y="23880600"/>
              <a:ext cx="827640" cy="221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123"/>
            <p:cNvCxnSpPr>
              <a:stCxn id="79" idx="1"/>
              <a:endCxn id="77" idx="2"/>
            </p:cNvCxnSpPr>
            <p:nvPr/>
          </p:nvCxnSpPr>
          <p:spPr>
            <a:xfrm rot="10800000">
              <a:off x="6629040" y="23880240"/>
              <a:ext cx="827640" cy="88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2124"/>
            <p:cNvCxnSpPr>
              <a:stCxn id="77" idx="1"/>
              <a:endCxn id="81" idx="2"/>
            </p:cNvCxnSpPr>
            <p:nvPr/>
          </p:nvCxnSpPr>
          <p:spPr>
            <a:xfrm rot="10800000">
              <a:off x="3319920" y="21218400"/>
              <a:ext cx="826920" cy="221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125"/>
            <p:cNvCxnSpPr>
              <a:stCxn id="83" idx="1"/>
              <a:endCxn id="81" idx="2"/>
            </p:cNvCxnSpPr>
            <p:nvPr/>
          </p:nvCxnSpPr>
          <p:spPr>
            <a:xfrm rot="10800000">
              <a:off x="3319920" y="21218040"/>
              <a:ext cx="826920" cy="88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2126"/>
            <p:cNvSpPr/>
            <p:nvPr/>
          </p:nvSpPr>
          <p:spPr>
            <a:xfrm>
              <a:off x="838080" y="20329560"/>
              <a:ext cx="4964040" cy="88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ontainer (C1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apacity:50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127"/>
            <p:cNvSpPr/>
            <p:nvPr/>
          </p:nvSpPr>
          <p:spPr>
            <a:xfrm>
              <a:off x="4146480" y="21663000"/>
              <a:ext cx="4965480" cy="884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Element (E1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Weight: 1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128"/>
            <p:cNvSpPr/>
            <p:nvPr/>
          </p:nvSpPr>
          <p:spPr>
            <a:xfrm>
              <a:off x="4146480" y="22991760"/>
              <a:ext cx="4965480" cy="88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ontainer (C2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apacity: 15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129"/>
            <p:cNvSpPr/>
            <p:nvPr/>
          </p:nvSpPr>
          <p:spPr>
            <a:xfrm>
              <a:off x="7456320" y="24325200"/>
              <a:ext cx="4964040" cy="884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Element (E2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Weight: 1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130"/>
            <p:cNvSpPr/>
            <p:nvPr/>
          </p:nvSpPr>
          <p:spPr>
            <a:xfrm>
              <a:off x="7456320" y="25653960"/>
              <a:ext cx="4964040" cy="888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Element (E3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Weight: 1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1600" y="2048184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47960" y="2185344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7960" y="2322504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4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96080" y="2452032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5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2400" y="2581596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7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" name=""/>
            <p:cNvCxnSpPr>
              <a:stCxn id="84" idx="4"/>
              <a:endCxn id="85" idx="2"/>
            </p:cNvCxnSpPr>
            <p:nvPr/>
          </p:nvCxnSpPr>
          <p:spPr>
            <a:xfrm flipH="1" rot="16200000">
              <a:off x="2590920" y="20062800"/>
              <a:ext cx="1105200" cy="3009960"/>
            </a:xfrm>
            <a:prstGeom prst="curvedConnector2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6" idx="6"/>
              <a:endCxn id="87" idx="2"/>
            </p:cNvCxnSpPr>
            <p:nvPr/>
          </p:nvCxnSpPr>
          <p:spPr>
            <a:xfrm>
              <a:off x="5181480" y="23491800"/>
              <a:ext cx="2514960" cy="1295640"/>
            </a:xfrm>
            <a:prstGeom prst="curvedConnector3">
              <a:avLst>
                <a:gd name="adj1" fmla="val 25010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7" idx="6"/>
              <a:endCxn id="92" idx="1"/>
            </p:cNvCxnSpPr>
            <p:nvPr/>
          </p:nvCxnSpPr>
          <p:spPr>
            <a:xfrm>
              <a:off x="8229600" y="24787080"/>
              <a:ext cx="3276720" cy="5400"/>
            </a:xfrm>
            <a:prstGeom prst="curvedConnector3">
              <a:avLst>
                <a:gd name="adj1" fmla="val 24964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92" idx="3"/>
              <a:endCxn id="88" idx="2"/>
            </p:cNvCxnSpPr>
            <p:nvPr/>
          </p:nvCxnSpPr>
          <p:spPr>
            <a:xfrm flipH="1">
              <a:off x="7772400" y="24792120"/>
              <a:ext cx="4419720" cy="1290960"/>
            </a:xfrm>
            <a:prstGeom prst="curvedConnector5">
              <a:avLst>
                <a:gd name="adj1" fmla="val -24"/>
                <a:gd name="adj2" fmla="val 54504"/>
                <a:gd name="adj3" fmla="val 100016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8" idx="6"/>
              <a:endCxn id="95" idx="1"/>
            </p:cNvCxnSpPr>
            <p:nvPr/>
          </p:nvCxnSpPr>
          <p:spPr>
            <a:xfrm>
              <a:off x="8305560" y="26082720"/>
              <a:ext cx="3277080" cy="38520"/>
            </a:xfrm>
            <a:prstGeom prst="curvedConnector3">
              <a:avLst>
                <a:gd name="adj1" fmla="val 24950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96" name=""/>
            <p:cNvSpPr/>
            <p:nvPr/>
          </p:nvSpPr>
          <p:spPr>
            <a:xfrm>
              <a:off x="1295280" y="2459664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505960" y="24410880"/>
              <a:ext cx="685800" cy="76212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6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8960" y="25587360"/>
              <a:ext cx="685800" cy="7617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29600" y="21744000"/>
              <a:ext cx="685800" cy="76212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3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53280" y="23072760"/>
              <a:ext cx="685800" cy="7617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9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582280" y="25739640"/>
              <a:ext cx="685800" cy="76212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800" spc="-1" strike="noStrike">
                  <a:solidFill>
                    <a:srgbClr val="0066ff"/>
                  </a:solidFill>
                  <a:latin typeface="Arial"/>
                </a:rPr>
                <a:t>8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85" idx="6"/>
              <a:endCxn id="98" idx="1"/>
            </p:cNvCxnSpPr>
            <p:nvPr/>
          </p:nvCxnSpPr>
          <p:spPr>
            <a:xfrm>
              <a:off x="5181480" y="22120200"/>
              <a:ext cx="3048480" cy="5400"/>
            </a:xfrm>
            <a:prstGeom prst="curvedConnector3">
              <a:avLst>
                <a:gd name="adj1" fmla="val 24955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8" idx="3"/>
              <a:endCxn id="86" idx="2"/>
            </p:cNvCxnSpPr>
            <p:nvPr/>
          </p:nvCxnSpPr>
          <p:spPr>
            <a:xfrm flipH="1">
              <a:off x="4647960" y="22125240"/>
              <a:ext cx="4267800" cy="1366920"/>
            </a:xfrm>
            <a:prstGeom prst="curvedConnector5">
              <a:avLst>
                <a:gd name="adj1" fmla="val -25"/>
                <a:gd name="adj2" fmla="val 54267"/>
                <a:gd name="adj3" fmla="val 100016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3"/>
              <a:endCxn id="99" idx="1"/>
            </p:cNvCxnSpPr>
            <p:nvPr/>
          </p:nvCxnSpPr>
          <p:spPr>
            <a:xfrm flipH="1" flipV="1">
              <a:off x="8153280" y="23453640"/>
              <a:ext cx="4115160" cy="2667600"/>
            </a:xfrm>
            <a:prstGeom prst="curvedConnector5">
              <a:avLst>
                <a:gd name="adj1" fmla="val -26"/>
                <a:gd name="adj2" fmla="val 50006"/>
                <a:gd name="adj3" fmla="val 100026"/>
              </a:avLst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2057400" y="257698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fter metho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09520" y="246412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efore metho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800600" y="20405880"/>
            <a:ext cx="685800" cy="7617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3800" spc="-1" strike="noStrike">
                <a:solidFill>
                  <a:srgbClr val="0066ff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3"/>
            <a:endCxn id="105" idx="1"/>
          </p:cNvCxnSpPr>
          <p:nvPr/>
        </p:nvCxnSpPr>
        <p:spPr>
          <a:xfrm flipH="1" flipV="1">
            <a:off x="4800600" y="20786760"/>
            <a:ext cx="4038840" cy="2667240"/>
          </a:xfrm>
          <a:prstGeom prst="curvedConnector5">
            <a:avLst>
              <a:gd name="adj1" fmla="val -26"/>
              <a:gd name="adj2" fmla="val 49986"/>
              <a:gd name="adj3" fmla="val 100026"/>
            </a:avLst>
          </a:prstGeom>
          <a:ln w="936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886200" y="14173200"/>
            <a:ext cx="14478120" cy="35053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implement using the shown sequence of visit method inv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7432000"/>
            <a:ext cx="20345400" cy="48769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vironment of Before C1 is not accessible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C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fore E1, After E2, Before C2, After C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3080" y="285840"/>
            <a:ext cx="21335760" cy="322516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2743200"/>
                <a:tab algn="l" pos="5486400"/>
                <a:tab algn="l" pos="822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46160"/>
            <a:ext cx="21690000" cy="3254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2743200"/>
                <a:tab algn="l" pos="5486400"/>
                <a:tab algn="l" pos="822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914400"/>
            <a:ext cx="14853960" cy="7315200"/>
            <a:chOff x="762120" y="914400"/>
            <a:chExt cx="14853960" cy="7315200"/>
          </a:xfrm>
        </p:grpSpPr>
        <p:sp>
          <p:nvSpPr>
            <p:cNvPr id="112" name=""/>
            <p:cNvSpPr/>
            <p:nvPr/>
          </p:nvSpPr>
          <p:spPr>
            <a:xfrm>
              <a:off x="762120" y="914400"/>
              <a:ext cx="10210680" cy="1295280"/>
            </a:xfrm>
            <a:prstGeom prst="rect">
              <a:avLst/>
            </a:prstGeom>
            <a:noFill/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Arial"/>
                </a:rPr>
                <a:t>Anatomy of a before method</a:t>
              </a:r>
              <a:endParaRPr b="0" lang="en-US" sz="6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219320" y="3276720"/>
              <a:ext cx="14396760" cy="4952880"/>
              <a:chOff x="1219320" y="3276720"/>
              <a:chExt cx="14396760" cy="4952880"/>
            </a:xfrm>
          </p:grpSpPr>
          <p:sp>
            <p:nvSpPr>
              <p:cNvPr id="114" name=""/>
              <p:cNvSpPr/>
              <p:nvPr/>
            </p:nvSpPr>
            <p:spPr>
              <a:xfrm>
                <a:off x="1219320" y="3276720"/>
                <a:ext cx="6391080" cy="4952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Class Visitor{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int foo;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      …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void before(Container c){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c.foo = foo;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            …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372600" y="3581280"/>
                <a:ext cx="6243480" cy="1495800"/>
              </a:xfrm>
              <a:prstGeom prst="rect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74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4600" spc="-1" strike="noStrike">
                    <a:solidFill>
                      <a:srgbClr val="000000"/>
                    </a:solidFill>
                    <a:latin typeface="Arial"/>
                  </a:rPr>
                  <a:t>Visitor fields are accessible here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296280" y="6095880"/>
                <a:ext cx="6243840" cy="1495800"/>
              </a:xfrm>
              <a:prstGeom prst="rect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74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4600" spc="-1" strike="noStrike">
                    <a:solidFill>
                      <a:srgbClr val="000000"/>
                    </a:solidFill>
                    <a:latin typeface="Arial"/>
                  </a:rPr>
                  <a:t>Visited object fields are accessible here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334120" y="4419720"/>
                <a:ext cx="4038480" cy="152388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3580920" y="6400800"/>
                <a:ext cx="5715000" cy="53352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914400" y="12192120"/>
            <a:ext cx="19888200" cy="13869720"/>
            <a:chOff x="914400" y="12192120"/>
            <a:chExt cx="19888200" cy="13869720"/>
          </a:xfrm>
        </p:grpSpPr>
        <p:sp>
          <p:nvSpPr>
            <p:cNvPr id="120" name=""/>
            <p:cNvSpPr/>
            <p:nvPr/>
          </p:nvSpPr>
          <p:spPr>
            <a:xfrm>
              <a:off x="914400" y="12192120"/>
              <a:ext cx="7924680" cy="1295280"/>
            </a:xfrm>
            <a:prstGeom prst="rect">
              <a:avLst/>
            </a:prstGeom>
            <a:noFill/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Arial"/>
                </a:rPr>
                <a:t>Interposition variables</a:t>
              </a:r>
              <a:endParaRPr b="0" lang="en-US" sz="6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1734920" y="14401800"/>
              <a:ext cx="9067680" cy="11660040"/>
              <a:chOff x="11734920" y="14401800"/>
              <a:chExt cx="9067680" cy="11660040"/>
            </a:xfrm>
          </p:grpSpPr>
          <p:sp>
            <p:nvSpPr>
              <p:cNvPr id="122" name=""/>
              <p:cNvSpPr/>
              <p:nvPr/>
            </p:nvSpPr>
            <p:spPr>
              <a:xfrm>
                <a:off x="18059400" y="23259960"/>
                <a:ext cx="27432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468840" y="23259960"/>
                <a:ext cx="2590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1734920" y="23259960"/>
                <a:ext cx="37339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After C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059400" y="22374360"/>
                <a:ext cx="274320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468840" y="22374360"/>
                <a:ext cx="259056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734920" y="22374360"/>
                <a:ext cx="373392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After C2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059400" y="21488400"/>
                <a:ext cx="27432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468840" y="21488400"/>
                <a:ext cx="2590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4920" y="21488400"/>
                <a:ext cx="37339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After E3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059400" y="20602440"/>
                <a:ext cx="27432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468840" y="20602440"/>
                <a:ext cx="2590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1734920" y="20602440"/>
                <a:ext cx="37339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Before E3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059400" y="19716840"/>
                <a:ext cx="274320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468840" y="19716840"/>
                <a:ext cx="259056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734920" y="19716840"/>
                <a:ext cx="373392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After E2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059400" y="18830880"/>
                <a:ext cx="27432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68840" y="18830880"/>
                <a:ext cx="2590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734920" y="18830880"/>
                <a:ext cx="37339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Before E2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059400" y="17945280"/>
                <a:ext cx="274320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468840" y="17945280"/>
                <a:ext cx="259056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734920" y="17945280"/>
                <a:ext cx="373392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Before C2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059400" y="17059320"/>
                <a:ext cx="27432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468840" y="17059320"/>
                <a:ext cx="2590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734920" y="17059320"/>
                <a:ext cx="37339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After E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059400" y="16173360"/>
                <a:ext cx="27432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5468840" y="16173360"/>
                <a:ext cx="2590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734920" y="16173360"/>
                <a:ext cx="37339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Before E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059400" y="15287760"/>
                <a:ext cx="274320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468840" y="15287760"/>
                <a:ext cx="259056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734920" y="15287760"/>
                <a:ext cx="373392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Before C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059400" y="14401800"/>
                <a:ext cx="27432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MyWeight @ C2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468840" y="14401800"/>
                <a:ext cx="2590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MyWeight @ C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734920" y="14401800"/>
                <a:ext cx="37339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575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Visit method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734920" y="14401800"/>
                <a:ext cx="90676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734920" y="1528776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734920" y="1617336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734920" y="1705932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734920" y="1794528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734920" y="1883088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734920" y="1971684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734920" y="2060244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734920" y="2148840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734920" y="2237436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734920" y="23259960"/>
                <a:ext cx="90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734920" y="24145920"/>
                <a:ext cx="90676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734920" y="14401800"/>
                <a:ext cx="0" cy="9744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468840" y="14401800"/>
                <a:ext cx="0" cy="974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059400" y="14401800"/>
                <a:ext cx="0" cy="974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802600" y="14401800"/>
                <a:ext cx="0" cy="9744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611840" y="15621120"/>
                <a:ext cx="3045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611840" y="23622120"/>
                <a:ext cx="30456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611840" y="164592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611840" y="1729728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611840" y="1821168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611840" y="22707720"/>
                <a:ext cx="30456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221480" y="1821168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221480" y="19050120"/>
                <a:ext cx="3049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221480" y="198882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221480" y="208026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221480" y="22707720"/>
                <a:ext cx="3049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221480" y="21793320"/>
                <a:ext cx="3049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963520" y="23317200"/>
                <a:ext cx="685800" cy="76212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10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039840" y="15468480"/>
                <a:ext cx="533160" cy="53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1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039840" y="16382880"/>
                <a:ext cx="533160" cy="53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2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963520" y="17145000"/>
                <a:ext cx="685800" cy="76212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3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039840" y="18135720"/>
                <a:ext cx="533160" cy="53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4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9840" y="19050120"/>
                <a:ext cx="533160" cy="53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5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963520" y="19792800"/>
                <a:ext cx="685800" cy="76212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6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039840" y="20802600"/>
                <a:ext cx="533160" cy="53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7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963520" y="21564720"/>
                <a:ext cx="685800" cy="7617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8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963520" y="22460040"/>
                <a:ext cx="685800" cy="7617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3800" spc="-1" strike="noStrike">
                    <a:solidFill>
                      <a:srgbClr val="0066ff"/>
                    </a:solidFill>
                    <a:latin typeface="Arial"/>
                  </a:rPr>
                  <a:t>9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2115800" y="24803280"/>
                <a:ext cx="30492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115800" y="25698600"/>
                <a:ext cx="3049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668400" y="25617600"/>
                <a:ext cx="640080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437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Perobject variable aliased as visitor field.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687480" y="24688800"/>
                <a:ext cx="731520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437"/>
                  </a:spcBef>
                  <a:tabLst>
                    <a:tab algn="l" pos="0"/>
                    <a:tab algn="l" pos="3135240"/>
                    <a:tab algn="l" pos="6270480"/>
                    <a:tab algn="l" pos="940608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Perobject variable seen as a part of the visited object.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371600" y="15163920"/>
              <a:ext cx="8686800" cy="39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251"/>
                </a:spcBef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 perobject variable called “MyWeight” introduced at class Container is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225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3135240"/>
                  <a:tab algn="l" pos="6270480"/>
                  <a:tab algn="l" pos="94060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Visible in before/After Container through the paramete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225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3135240"/>
                  <a:tab algn="l" pos="6270480"/>
                  <a:tab algn="l" pos="94060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liased in the visitor while visiting children of a containe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38280" y="21640680"/>
              <a:ext cx="5105520" cy="4419720"/>
            </a:xfrm>
            <a:prstGeom prst="irregularSeal2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Solved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43080" y="285840"/>
            <a:ext cx="21335760" cy="322516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2743200"/>
                <a:tab algn="l" pos="5486400"/>
                <a:tab algn="l" pos="822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146160"/>
            <a:ext cx="21690000" cy="3254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ctr">
            <a:noAutofit/>
          </a:bodyPr>
          <a:p>
            <a:pPr algn="ctr">
              <a:tabLst>
                <a:tab algn="l" pos="0"/>
                <a:tab algn="l" pos="2743200"/>
                <a:tab algn="l" pos="5486400"/>
                <a:tab algn="l" pos="822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838080"/>
            <a:ext cx="10820520" cy="129564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Perobject variables Vs. other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29440" y="3581280"/>
            <a:ext cx="6477120" cy="7086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int[] check(Item o)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nt myWeight = 0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nt violations = 0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f(o instanceof Container)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ntainer c = (Container) 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or (Iterator iterator = c.items.iterator(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terator.hasNext();) 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tem item = (Item) iterator.next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nt [] ret = check(item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myWeight+=ret[0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violations+=ret[1]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f(myWeight&gt;c.capacity) violations++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else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lement e = (Element) 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myWeight = e.weigh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violations = 0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return new int[]{myWeight,violations}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944600" y="3581280"/>
            <a:ext cx="7391520" cy="990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class CheckerVisitor extends Visitor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nt totalViolations = 0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Stack &lt; MutableInteger &gt; myWeight =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new Stack &lt; MutableInteger &gt; 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CheckerVisitor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{ myWeight.push(new MutableInteger(0)); 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MutableInteger currentMyWeight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{ return myWeight.peek(); 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MutableInteger previousMyWeight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{ return myWeight.elementAt(myWeight.size()-2); 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void before(Container 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{ myWeight.push(new MutableInteger(0)); 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void after(Container c)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reviousMyWeight().setI(previousMyWeight().getI(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+ currentMyWeight().getI(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f (c.capacity &lt; currentMyWeight().getI()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talViolations ++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myWeight.pop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void before(Element e){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urrentMyWeight().setI(currentMyWeight().getI(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+ e.weight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class MutableInteger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581280"/>
            <a:ext cx="6019560" cy="58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class CheckerVisitor extends Visitor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nt totalViolations = 0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@PerObject(className = "Container"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nitializer = "0"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nt myWeigh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void before(Element e)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myWeight = myWeight + e.weigh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ublic void after(Container c)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myWeight = myWeight + c.myWeigh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oolean vio = c.capacity &lt; c.myWeigh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f (vio)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talViolations++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1125080"/>
            <a:ext cx="5715000" cy="6629400"/>
          </a:xfrm>
          <a:prstGeom prst="irregularSeal2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+ Sh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+intu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+ Adap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18592920"/>
            <a:ext cx="5943600" cy="1295280"/>
          </a:xfrm>
          <a:prstGeom prst="rect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6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9641680"/>
            <a:ext cx="2049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506320" y="20650320"/>
            <a:ext cx="8534160" cy="7696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ointcut beforeContainer(CheckerVisitor v, Container c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arget(v) &amp;&amp; args(c) &amp;&amp; within(CheckerVisitor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&amp;&amp; execution(public void before(Container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after(CheckerVisitor v, Container c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foreContainer(v,c)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nt tmp = c.myWeigh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.myWeight = v.myWeigh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v.myWeight = tmp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ointcut afterContainer(CheckerVisitor v, Container c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arget(v) &amp;&amp; args(c) &amp;&amp; within(CheckerVisitor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&amp;&amp; execution(public void after(Container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before(CheckerVisitor v, container.Container c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afterContainer(v,c)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nt tmp = c.myWeigh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.myWeight = v.myWeigh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v.myWeight = tmp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29794320"/>
          <a:ext cx="20421360" cy="2311200"/>
        </p:xfrm>
        <a:graphic>
          <a:graphicData uri="http://schemas.openxmlformats.org/drawingml/2006/table">
            <a:tbl>
              <a:tblPr/>
              <a:tblGrid>
                <a:gridCol w="2042136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3135240"/>
                          <a:tab algn="l" pos="6270480"/>
                          <a:tab algn="l" pos="94060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1] Erich Gamma, Richard Helm, Ralph Johnson, and John Vlissides.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Patterns: Elements of Reusable Object-Oriented Softwa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ddison-Wesley, 199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3135240"/>
                          <a:tab algn="l" pos="6270480"/>
                          <a:tab algn="l" pos="9406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3135240"/>
                          <a:tab algn="l" pos="6270480"/>
                          <a:tab algn="l" pos="94060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] Bryan Chadwick and Therapon Skotiniotis and Karl Lieberherr. Functional Visitors Revisited. Technical Report NU-CCIS-06-03, Northeastern University, Boston, May 200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3135240"/>
                          <a:tab algn="l" pos="6270480"/>
                          <a:tab algn="l" pos="94060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3] Karl J. Lieberherr, Ignacio Silva-Lepe, and Cun Xiao. Adaptive object-oriented programming using graph-based customization.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s of the AC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37(5):94–101, May 199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3135240"/>
                          <a:tab algn="l" pos="6270480"/>
                          <a:tab algn="l" pos="94060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4] Perobject Visitors. http://www.ccs.neu.edu/home/mohsen/perobject/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3135240"/>
                          <a:tab algn="l" pos="6270480"/>
                          <a:tab algn="l" pos="94060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1676520" y="21336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annotation processor generates an aspect that introduces necessary variables, initialize them, and implement the alia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0:29:13Z</dcterms:created>
  <dc:creator>College of Computer and Information Science</dc:creator>
  <dc:description/>
  <dc:language>en-US</dc:language>
  <cp:lastModifiedBy>College of Computer and Information Science</cp:lastModifiedBy>
  <dcterms:modified xsi:type="dcterms:W3CDTF">2007-10-04T02:15:55Z</dcterms:modified>
  <cp:revision>5</cp:revision>
  <dc:subject/>
  <dc:title>Slide 1</dc:title>
</cp:coreProperties>
</file>