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Fast Summaries of Complex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del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hmed Abdelme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er Ok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ulti-point Summary Computation (1/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ickle the data records down the tr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nodes splitting on a summary attribut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ickle records down all bra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nodes splitting on a non-summary attribut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lit the records, trickle the splits down the corresponding bra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a leaf, return the prediction * the number of records reached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ulti-point Summary Computation (2/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he way 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a summary attribut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 the children and residual prediction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turn the entire n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a non-summary attribut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t most one branch returns a node, return that node (if any) and the sum of the residual prediction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return a special node (always true) that contains all returned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roblem overview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n a model predicting the probability of bird sighting based on 196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sensitive the prediction is to variabl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mmarize the model based on variabl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 Single Summa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 flipV="1">
            <a:off x="4276800" y="2238120"/>
            <a:ext cx="2160" cy="19864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8" name=""/>
          <p:cNvCxnSpPr/>
          <p:nvPr/>
        </p:nvCxnSpPr>
        <p:spPr>
          <a:xfrm>
            <a:off x="4276440" y="4226040"/>
            <a:ext cx="21517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659480" y="425916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3348000" y="317628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/>
          <p:nvPr/>
        </p:nvCxnSpPr>
        <p:spPr>
          <a:xfrm flipV="1">
            <a:off x="4649760" y="3269880"/>
            <a:ext cx="147888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5630760"/>
            <a:ext cx="860904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informative the summary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f variable 2 interacts with variabl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ill down on variable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ultiple Summaries (1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 flipV="1">
            <a:off x="1252080" y="2285280"/>
            <a:ext cx="2520" cy="19868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5" name=""/>
          <p:cNvCxnSpPr/>
          <p:nvPr/>
        </p:nvCxnSpPr>
        <p:spPr>
          <a:xfrm>
            <a:off x="1252080" y="4273560"/>
            <a:ext cx="21517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049400" y="4967280"/>
            <a:ext cx="2333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&lt; Variable 2 &l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/>
          <p:nvPr/>
        </p:nvCxnSpPr>
        <p:spPr>
          <a:xfrm flipV="1">
            <a:off x="1636200" y="2754000"/>
            <a:ext cx="1089720" cy="10339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58" name=""/>
          <p:cNvSpPr/>
          <p:nvPr/>
        </p:nvSpPr>
        <p:spPr>
          <a:xfrm>
            <a:off x="1636560" y="430704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325440" y="3224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V="1">
            <a:off x="4276800" y="2238120"/>
            <a:ext cx="2160" cy="19864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>
            <a:off x="4276440" y="4226040"/>
            <a:ext cx="21517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73400" y="4921200"/>
            <a:ext cx="2481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&lt; Variable 2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/>
          <p:nvPr/>
        </p:nvCxnSpPr>
        <p:spPr>
          <a:xfrm flipH="1" flipV="1">
            <a:off x="4629960" y="2707920"/>
            <a:ext cx="1483560" cy="11023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64" name=""/>
          <p:cNvSpPr/>
          <p:nvPr/>
        </p:nvSpPr>
        <p:spPr>
          <a:xfrm>
            <a:off x="4659480" y="425916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3348000" y="317628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/>
          <p:nvPr/>
        </p:nvCxnSpPr>
        <p:spPr>
          <a:xfrm flipV="1">
            <a:off x="7353360" y="2238120"/>
            <a:ext cx="2160" cy="19864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>
            <a:off x="7353000" y="4226040"/>
            <a:ext cx="21517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7149960" y="4921200"/>
            <a:ext cx="2481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&lt; Variable 2 &l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/>
          <p:nvPr/>
        </p:nvCxnSpPr>
        <p:spPr>
          <a:xfrm>
            <a:off x="7737480" y="3308400"/>
            <a:ext cx="125784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70" name=""/>
          <p:cNvSpPr/>
          <p:nvPr/>
        </p:nvSpPr>
        <p:spPr>
          <a:xfrm>
            <a:off x="7736040" y="425916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6424560" y="317628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5630760"/>
            <a:ext cx="860904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number of summ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ultiple Summaries 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74" name=""/>
          <p:cNvCxnSpPr/>
          <p:nvPr/>
        </p:nvCxnSpPr>
        <p:spPr>
          <a:xfrm flipV="1">
            <a:off x="1252080" y="2285280"/>
            <a:ext cx="2520" cy="19868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5" name=""/>
          <p:cNvCxnSpPr/>
          <p:nvPr/>
        </p:nvCxnSpPr>
        <p:spPr>
          <a:xfrm>
            <a:off x="1252080" y="4273560"/>
            <a:ext cx="21517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049400" y="4967280"/>
            <a:ext cx="2333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&lt; Variable 2 &l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/>
          <p:nvPr/>
        </p:nvCxnSpPr>
        <p:spPr>
          <a:xfrm flipV="1">
            <a:off x="1636200" y="2754000"/>
            <a:ext cx="1089720" cy="10339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78" name=""/>
          <p:cNvSpPr/>
          <p:nvPr/>
        </p:nvSpPr>
        <p:spPr>
          <a:xfrm>
            <a:off x="1636560" y="430704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325440" y="3224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V="1">
            <a:off x="4276800" y="2238120"/>
            <a:ext cx="2160" cy="19864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4276440" y="4226040"/>
            <a:ext cx="21517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4073400" y="4921200"/>
            <a:ext cx="2481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&lt; Variable 2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9480" y="425916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3348000" y="317628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/>
          <p:nvPr/>
        </p:nvCxnSpPr>
        <p:spPr>
          <a:xfrm flipV="1">
            <a:off x="7353360" y="2238120"/>
            <a:ext cx="2160" cy="19864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>
            <a:off x="7353000" y="4226040"/>
            <a:ext cx="21517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7149960" y="4921200"/>
            <a:ext cx="2481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&lt; Variable 2 &l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>
            <a:off x="7741800" y="2666520"/>
            <a:ext cx="1266120" cy="9406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89" name=""/>
          <p:cNvSpPr/>
          <p:nvPr/>
        </p:nvSpPr>
        <p:spPr>
          <a:xfrm>
            <a:off x="7736040" y="425916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6424560" y="317628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5630760"/>
            <a:ext cx="860904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es can be split into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meaningfu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us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4643280" y="2742840"/>
            <a:ext cx="1090080" cy="10339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ultiple Summaries 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94" name=""/>
          <p:cNvCxnSpPr/>
          <p:nvPr/>
        </p:nvCxnSpPr>
        <p:spPr>
          <a:xfrm flipV="1">
            <a:off x="1252080" y="2285280"/>
            <a:ext cx="2520" cy="19868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>
            <a:off x="1252080" y="4273560"/>
            <a:ext cx="21517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1049400" y="4967280"/>
            <a:ext cx="2333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&lt; Variable 2 &l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/>
          <p:nvPr/>
        </p:nvCxnSpPr>
        <p:spPr>
          <a:xfrm flipV="1">
            <a:off x="1636200" y="2754000"/>
            <a:ext cx="1089720" cy="10339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98" name=""/>
          <p:cNvSpPr/>
          <p:nvPr/>
        </p:nvSpPr>
        <p:spPr>
          <a:xfrm>
            <a:off x="1636560" y="430704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25440" y="3224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flipV="1">
            <a:off x="4276800" y="2238120"/>
            <a:ext cx="2160" cy="19864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>
            <a:off x="4276440" y="4226040"/>
            <a:ext cx="21517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073400" y="4921200"/>
            <a:ext cx="2481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&lt; Variable 2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59480" y="425916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3348000" y="317628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 flipV="1">
            <a:off x="7353360" y="2238120"/>
            <a:ext cx="2160" cy="19864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6" name=""/>
          <p:cNvCxnSpPr/>
          <p:nvPr/>
        </p:nvCxnSpPr>
        <p:spPr>
          <a:xfrm>
            <a:off x="7353000" y="4226040"/>
            <a:ext cx="21517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7149960" y="4921200"/>
            <a:ext cx="2481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&lt; Variable 2 &l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/>
          <p:nvPr/>
        </p:nvCxnSpPr>
        <p:spPr>
          <a:xfrm>
            <a:off x="4764240" y="2719440"/>
            <a:ext cx="1265760" cy="9403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09" name=""/>
          <p:cNvSpPr/>
          <p:nvPr/>
        </p:nvSpPr>
        <p:spPr>
          <a:xfrm>
            <a:off x="7736040" y="425916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424560" y="317628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1240" y="5630760"/>
            <a:ext cx="860904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es can be split into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meaningfu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us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7826040" y="2622240"/>
            <a:ext cx="1089720" cy="10339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olution Architectu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813120"/>
            <a:ext cx="7668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6400" y="3813120"/>
            <a:ext cx="18288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 and rank single summ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4360" y="3813120"/>
            <a:ext cx="18288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 Cluster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78440" y="3813120"/>
            <a:ext cx="18288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4" idx="3"/>
            <a:endCxn id="117" idx="1"/>
          </p:cNvCxnSpPr>
          <p:nvPr/>
        </p:nvCxnSpPr>
        <p:spPr>
          <a:xfrm>
            <a:off x="3966840" y="4382640"/>
            <a:ext cx="1011960" cy="2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19" name=""/>
          <p:cNvCxnSpPr>
            <a:stCxn id="117" idx="3"/>
            <a:endCxn id="116" idx="1"/>
          </p:cNvCxnSpPr>
          <p:nvPr/>
        </p:nvCxnSpPr>
        <p:spPr>
          <a:xfrm>
            <a:off x="6807240" y="438264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0" name=""/>
          <p:cNvCxnSpPr>
            <a:stCxn id="117" idx="3"/>
            <a:endCxn id="117" idx="1"/>
          </p:cNvCxnSpPr>
          <p:nvPr/>
        </p:nvCxnSpPr>
        <p:spPr>
          <a:xfrm flipV="1" rot="10800000">
            <a:off x="4977720" y="4382640"/>
            <a:ext cx="1829520" cy="25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1" name=""/>
          <p:cNvCxnSpPr>
            <a:endCxn id="115" idx="1"/>
          </p:cNvCxnSpPr>
          <p:nvPr/>
        </p:nvCxnSpPr>
        <p:spPr>
          <a:xfrm>
            <a:off x="509760" y="4376880"/>
            <a:ext cx="297360" cy="86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2" name=""/>
          <p:cNvCxnSpPr>
            <a:stCxn id="116" idx="3"/>
          </p:cNvCxnSpPr>
          <p:nvPr/>
        </p:nvCxnSpPr>
        <p:spPr>
          <a:xfrm flipV="1">
            <a:off x="9263160" y="438120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3" name=""/>
          <p:cNvCxnSpPr>
            <a:stCxn id="115" idx="3"/>
            <a:endCxn id="114" idx="1"/>
          </p:cNvCxnSpPr>
          <p:nvPr/>
        </p:nvCxnSpPr>
        <p:spPr>
          <a:xfrm>
            <a:off x="2635200" y="4384800"/>
            <a:ext cx="5659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ingle Summary Comput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pper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subset of data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subset of summaries: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subset of the model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e a portion of a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r: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 portions pertaining to the same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uting a Summa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ïve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very data point and summary, query the model for every visualization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gle point short circui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very data point, produce a smaller model that is queried by every plot for every visualization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point short circui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very plot, produce a smaller model using all relevant data points, query the smaller model for every visualization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hmed Abdelmeged</dc:creator>
  <dc:description>Lilac title area and left border with three blue-green accent elements on left border, gray background</dc:description>
  <dc:language>en-US</dc:language>
  <cp:lastModifiedBy>Ahmed Abdelmeged</cp:lastModifiedBy>
  <cp:revision>0</cp:revision>
  <dc:subject/>
  <dc:title>Subtle Accents</dc:title>
</cp:coreProperties>
</file>