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DF0-5330-48D2-8EE5-DF61D445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20B-4676-4F1D-92F9-829588D6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438-67B2-43EA-A593-C3330628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FC7-0957-4BAC-8B0C-8C5FC7D5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560-C7C5-4E7B-A1D3-EE86DCB4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7EE-BA41-4513-B4AC-1B08FE6E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65E-E392-462C-AEF2-F902C06B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D92-E978-4CA1-A30D-3746B005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AC3-F511-4FEC-9813-2AE3CAEE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3EA-847F-4196-91B6-06CF0561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8B9-57F5-4AF3-8D51-D4A0309E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52D-8DE6-4FEA-96CA-BA35F20A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9186-8A72-4E23-99C1-F6D5302AF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Functional Programming Matters --- In an Object-Oriented World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thias Fellei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ce Un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tating Dat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24908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89680" y="1143000"/>
            <a:ext cx="21193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3160" y="3962520"/>
            <a:ext cx="381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N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T = … CC(a:Ta, b:Tb) |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57840" y="3962520"/>
            <a:ext cx="406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OPS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C(a:Ta, b:Tb) implements 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9200" y="1130400"/>
            <a:ext cx="21222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z.a := y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ing Methods in OO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24908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1520" y="1130400"/>
            <a:ext cx="33048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x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p [s=x,u=BV2,this=z]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8600" y="3886200"/>
            <a:ext cx="406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OPS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C(a:Ta, b:Tb) implements 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 m(S s, U u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39200" y="1130400"/>
            <a:ext cx="21222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x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z. m(x,BV2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51880" y="3809880"/>
            <a:ext cx="411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C(a:CC, b:int) implements 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 m(CC s, U u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.a := u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ing Functions in FU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24908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86280" y="1130400"/>
            <a:ext cx="29941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x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p [t=z,s=x,u=BV2]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7280" y="3886200"/>
            <a:ext cx="258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N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(T t, S s, U u) =  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9200" y="1130400"/>
            <a:ext cx="21222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x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(z,x,BV2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12360" y="3809880"/>
            <a:ext cx="257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(CC t, CC s, int u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.a :=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bout First-Class Function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333800" y="1130400"/>
            <a:ext cx="6847200" cy="2288520"/>
            <a:chOff x="1333800" y="1130400"/>
            <a:chExt cx="6847200" cy="2288520"/>
          </a:xfrm>
        </p:grpSpPr>
        <p:grpSp>
          <p:nvGrpSpPr>
            <p:cNvPr id="119" name=""/>
            <p:cNvGrpSpPr/>
            <p:nvPr/>
          </p:nvGrpSpPr>
          <p:grpSpPr>
            <a:xfrm>
              <a:off x="1333800" y="1130400"/>
              <a:ext cx="6847200" cy="2288520"/>
              <a:chOff x="1333800" y="1130400"/>
              <a:chExt cx="6847200" cy="2288520"/>
            </a:xfrm>
          </p:grpSpPr>
          <p:sp>
            <p:nvSpPr>
              <p:cNvPr id="120" name=""/>
              <p:cNvSpPr/>
              <p:nvPr/>
            </p:nvSpPr>
            <p:spPr>
              <a:xfrm>
                <a:off x="4114800" y="249084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51000" y="1130400"/>
                <a:ext cx="2430000" cy="22885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x =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y =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Tahoma"/>
                  </a:rPr>
                  <a:t>z = (lambda (x) ex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…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i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…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Tahoma"/>
                  </a:rPr>
                  <a:t>z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…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en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33800" y="1130400"/>
                <a:ext cx="2553480" cy="2014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x =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y =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…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i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…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Tahoma"/>
                  </a:rPr>
                  <a:t>(lambda (x) exp)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…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en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228920" y="208908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re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42440" y="3886200"/>
            <a:ext cx="6849360" cy="2288520"/>
            <a:chOff x="1342440" y="3886200"/>
            <a:chExt cx="6849360" cy="2288520"/>
          </a:xfrm>
        </p:grpSpPr>
        <p:sp>
          <p:nvSpPr>
            <p:cNvPr id="125" name=""/>
            <p:cNvSpPr/>
            <p:nvPr/>
          </p:nvSpPr>
          <p:spPr>
            <a:xfrm>
              <a:off x="4114800" y="52466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42440" y="3886200"/>
              <a:ext cx="2430000" cy="228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 =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y =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z = (lambda (x) ex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…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(z U)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61800" y="3886200"/>
              <a:ext cx="2430000" cy="228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 =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y =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z = (lambda (x) ex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…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exp[z = U]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46920" y="46483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p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bout Inheritance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3480" y="1981080"/>
            <a:ext cx="2606760" cy="2562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 A(X x, Y 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B(Z z) extends 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8120" y="1981080"/>
            <a:ext cx="5755320" cy="3385800"/>
            <a:chOff x="3048120" y="1981080"/>
            <a:chExt cx="5755320" cy="3385800"/>
          </a:xfrm>
        </p:grpSpPr>
        <p:sp>
          <p:nvSpPr>
            <p:cNvPr id="132" name=""/>
            <p:cNvSpPr/>
            <p:nvPr/>
          </p:nvSpPr>
          <p:spPr>
            <a:xfrm>
              <a:off x="6454080" y="1981080"/>
              <a:ext cx="2349360" cy="338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 A(X x, Y y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B(X x, Y y, Z z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8120" y="2743200"/>
              <a:ext cx="3200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2819520"/>
              <a:ext cx="189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type elabor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bout Inheritance with Overriding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3480" y="1981080"/>
            <a:ext cx="2606760" cy="28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 A(X x, Y 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B(Z z) extends 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tho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8120" y="1981080"/>
            <a:ext cx="5755320" cy="3385800"/>
            <a:chOff x="3048120" y="1981080"/>
            <a:chExt cx="5755320" cy="3385800"/>
          </a:xfrm>
        </p:grpSpPr>
        <p:sp>
          <p:nvSpPr>
            <p:cNvPr id="138" name=""/>
            <p:cNvSpPr/>
            <p:nvPr/>
          </p:nvSpPr>
          <p:spPr>
            <a:xfrm>
              <a:off x="6454080" y="1981080"/>
              <a:ext cx="2349360" cy="338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 A(X x, Y y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B(X x, Y y, Z z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metho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8120" y="2743200"/>
              <a:ext cx="3200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7600" y="2819520"/>
              <a:ext cx="189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type elabor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V="1">
            <a:off x="762120" y="2437920"/>
            <a:ext cx="533160" cy="16765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Elaboration: The Global Pi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1752480"/>
            <a:ext cx="4876560" cy="3962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19440" y="1828800"/>
            <a:ext cx="952560" cy="3886200"/>
          </a:xfrm>
          <a:custGeom>
            <a:avLst/>
            <a:gdLst/>
            <a:ahLst/>
            <a:rect l="l" t="t" r="r" b="b"/>
            <a:pathLst>
              <a:path w="600" h="2448">
                <a:moveTo>
                  <a:pt x="600" y="0"/>
                </a:moveTo>
                <a:cubicBezTo>
                  <a:pt x="516" y="252"/>
                  <a:pt x="432" y="504"/>
                  <a:pt x="408" y="768"/>
                </a:cubicBezTo>
                <a:cubicBezTo>
                  <a:pt x="384" y="1032"/>
                  <a:pt x="512" y="1352"/>
                  <a:pt x="456" y="1584"/>
                </a:cubicBezTo>
                <a:cubicBezTo>
                  <a:pt x="400" y="1816"/>
                  <a:pt x="144" y="2016"/>
                  <a:pt x="72" y="2160"/>
                </a:cubicBezTo>
                <a:cubicBezTo>
                  <a:pt x="0" y="2304"/>
                  <a:pt x="32" y="2400"/>
                  <a:pt x="24" y="2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1828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96160" y="167652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, 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2590920"/>
            <a:ext cx="3808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429000"/>
            <a:ext cx="3808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343400"/>
            <a:ext cx="3808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5410080"/>
            <a:ext cx="3808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62320" y="306216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 Derivation Path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2000" y="3429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038120" y="3429000"/>
            <a:ext cx="21337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2819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s of Computation: Conclu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ype elaboration, the two pictures are nearly indistinguishab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both models, creation, access, and  mutation of data proceeds in a coherent (“safe”) mann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gged compound data are the essence of computation --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rest is termin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cus of OO and Functional Computation: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4400" y="1905120"/>
            <a:ext cx="1912680" cy="482040"/>
            <a:chOff x="914400" y="1905120"/>
            <a:chExt cx="1912680" cy="482040"/>
          </a:xfrm>
        </p:grpSpPr>
        <p:sp>
          <p:nvSpPr>
            <p:cNvPr id="159" name=""/>
            <p:cNvSpPr/>
            <p:nvPr/>
          </p:nvSpPr>
          <p:spPr>
            <a:xfrm>
              <a:off x="934560" y="1905120"/>
              <a:ext cx="1892520" cy="301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914400" y="1929960"/>
              <a:ext cx="1862640" cy="457200"/>
              <a:chOff x="914400" y="1929960"/>
              <a:chExt cx="1862640" cy="457200"/>
            </a:xfrm>
          </p:grpSpPr>
          <p:sp>
            <p:nvSpPr>
              <p:cNvPr id="161" name=""/>
              <p:cNvSpPr/>
              <p:nvPr/>
            </p:nvSpPr>
            <p:spPr>
              <a:xfrm>
                <a:off x="131292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9956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8692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7428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14400" y="19303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1143000" y="2209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19320" y="2622600"/>
            <a:ext cx="1639080" cy="368280"/>
            <a:chOff x="1219320" y="2622600"/>
            <a:chExt cx="1639080" cy="368280"/>
          </a:xfrm>
        </p:grpSpPr>
        <p:sp>
          <p:nvSpPr>
            <p:cNvPr id="168" name=""/>
            <p:cNvSpPr/>
            <p:nvPr/>
          </p:nvSpPr>
          <p:spPr>
            <a:xfrm>
              <a:off x="1219320" y="2805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00640" y="2622600"/>
              <a:ext cx="1157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tho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219320" y="3276720"/>
            <a:ext cx="1639080" cy="368280"/>
            <a:chOff x="1219320" y="3276720"/>
            <a:chExt cx="1639080" cy="368280"/>
          </a:xfrm>
        </p:grpSpPr>
        <p:sp>
          <p:nvSpPr>
            <p:cNvPr id="171" name=""/>
            <p:cNvSpPr/>
            <p:nvPr/>
          </p:nvSpPr>
          <p:spPr>
            <a:xfrm>
              <a:off x="1219320" y="3459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00640" y="3276720"/>
              <a:ext cx="1157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tho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19320" y="3967200"/>
            <a:ext cx="1639080" cy="368280"/>
            <a:chOff x="1219320" y="3967200"/>
            <a:chExt cx="1639080" cy="368280"/>
          </a:xfrm>
        </p:grpSpPr>
        <p:sp>
          <p:nvSpPr>
            <p:cNvPr id="174" name=""/>
            <p:cNvSpPr/>
            <p:nvPr/>
          </p:nvSpPr>
          <p:spPr>
            <a:xfrm>
              <a:off x="1219320" y="4150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00640" y="3967200"/>
              <a:ext cx="1157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tho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57800" y="1905120"/>
            <a:ext cx="1912680" cy="482040"/>
            <a:chOff x="5257800" y="1905120"/>
            <a:chExt cx="1912680" cy="482040"/>
          </a:xfrm>
        </p:grpSpPr>
        <p:sp>
          <p:nvSpPr>
            <p:cNvPr id="177" name=""/>
            <p:cNvSpPr/>
            <p:nvPr/>
          </p:nvSpPr>
          <p:spPr>
            <a:xfrm>
              <a:off x="5277960" y="1905120"/>
              <a:ext cx="1892520" cy="301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257800" y="1929960"/>
              <a:ext cx="1862640" cy="457200"/>
              <a:chOff x="5257800" y="1929960"/>
              <a:chExt cx="186264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565632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4296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3032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1768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57800" y="19303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5051520" y="3429000"/>
            <a:ext cx="120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220932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67560" y="3429000"/>
            <a:ext cx="120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6248160" y="220932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91800" y="3429000"/>
            <a:ext cx="120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400800" y="2209320"/>
            <a:ext cx="2362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21960" y="513720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, method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tached to data by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hysical link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15560" y="51814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, function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tached to data by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afety poli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27160" y="6248520"/>
            <a:ext cx="68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ffect: a completely safe treatment of data in both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s of Programm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s a progra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people design programs in FUN, O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-driven desig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ter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things re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people edit (“abstract”) and comprehen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Comp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s of Compu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s of Programm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ig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traction (Single Point of Contr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inn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ons Lear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a Program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tch-processing accounting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 elevator controller (context: physical devi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GUI with buttons and text fields and ... (context: monit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pace probe (context: devices, broadcast, …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676520" y="1752480"/>
            <a:ext cx="6019200" cy="914400"/>
            <a:chOff x="1676520" y="1752480"/>
            <a:chExt cx="6019200" cy="914400"/>
          </a:xfrm>
        </p:grpSpPr>
        <p:grpSp>
          <p:nvGrpSpPr>
            <p:cNvPr id="198" name=""/>
            <p:cNvGrpSpPr/>
            <p:nvPr/>
          </p:nvGrpSpPr>
          <p:grpSpPr>
            <a:xfrm>
              <a:off x="1676520" y="1752480"/>
              <a:ext cx="6019200" cy="914400"/>
              <a:chOff x="1676520" y="1752480"/>
              <a:chExt cx="6019200" cy="914400"/>
            </a:xfrm>
          </p:grpSpPr>
          <p:sp>
            <p:nvSpPr>
              <p:cNvPr id="199" name=""/>
              <p:cNvSpPr/>
              <p:nvPr/>
            </p:nvSpPr>
            <p:spPr>
              <a:xfrm>
                <a:off x="3047760" y="1752480"/>
                <a:ext cx="327636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676520" y="2133360"/>
                <a:ext cx="1295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00800" y="2133360"/>
                <a:ext cx="129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923280" y="198108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gra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ing Programs in a Data-Driven Fash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hape of the program is determined by the description of the class of input da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at: inexact numbers, chars, truth values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ound: 2D 3D points, personnel records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ed: 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im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either a spider, an elephant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bitrarily large: 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either empty or a value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shed onto a st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t Data Collections: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65960" y="17082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70240" y="1403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1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76640" y="23176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785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97000" y="18604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7040" y="365112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fine a fun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41200" y="36511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fine a static metho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2680" y="518148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e things require domain knowledge and CS/SE isn’t going to help mu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83880" y="1523880"/>
            <a:ext cx="72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lepha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has a name, an age, and a certain demand for sp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21680" y="2971800"/>
            <a:ext cx="253368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Elephan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 of (name:Strin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09800" y="2971800"/>
            <a:ext cx="2410200" cy="201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Elephant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 Number)  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 Data and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000" y="1676520"/>
            <a:ext cx="3262320" cy="28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Elephan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 of (name:Strin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s_into(ele: Elepha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ge_space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le.spac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lt; cage_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81040" y="1676520"/>
            <a:ext cx="3676680" cy="3111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Elephant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 Numb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s_into(cage_space: Numb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pac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 cage_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09880" y="5791320"/>
            <a:ext cx="50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both cases, remember the available piec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 Data (Un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56960" y="1066680"/>
            <a:ext cx="68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animal is either (1) an elephant (2) a spider or (3) a monke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400" y="1752480"/>
            <a:ext cx="4017960" cy="2562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Animal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 of (name: 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 s of (name: String,  legs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 m of (name: St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1640" y="1752480"/>
            <a:ext cx="4650480" cy="420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ace Animal 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Elephant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 Numb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 Animal 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Spider (name: String; legs: Numb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 Animal 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Monkey(name:Str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 Animal 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 Data and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4600" y="914400"/>
            <a:ext cx="4161240" cy="420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Animal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 of (name: 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 s of (name: String,  legs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 m of (name: St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s_into : Elephant Number -&gt; 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s_into(a: Animal, cage_sp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ase a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: a.space &lt; cage_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: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: fa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1640" y="914400"/>
            <a:ext cx="4650480" cy="585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ace Animal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s_into : Number -&gt; Bool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Elephant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 Number)  implements Anima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its_into(cage_sp: Numb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pace &lt; cage_sp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Spider (name: String; legs: Numb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 Anima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its_into(cage_sp: Numb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rue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Monkey(name:Str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 Animal { …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its_int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…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itrarily L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15760" y="863640"/>
            <a:ext cx="5347080" cy="1380600"/>
            <a:chOff x="815760" y="863640"/>
            <a:chExt cx="5347080" cy="1380600"/>
          </a:xfrm>
        </p:grpSpPr>
        <p:sp>
          <p:nvSpPr>
            <p:cNvPr id="230" name=""/>
            <p:cNvSpPr/>
            <p:nvPr/>
          </p:nvSpPr>
          <p:spPr>
            <a:xfrm>
              <a:off x="815760" y="1327320"/>
              <a:ext cx="5347080" cy="91692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sequential file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is eith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1) end of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2) a character followed by a sequential fil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863640"/>
              <a:ext cx="2882880" cy="1193760"/>
            </a:xfrm>
            <a:custGeom>
              <a:avLst/>
              <a:gdLst/>
              <a:ahLst/>
              <a:rect l="l" t="t" r="r" b="b"/>
              <a:pathLst>
                <a:path w="1816" h="752">
                  <a:moveTo>
                    <a:pt x="1632" y="752"/>
                  </a:moveTo>
                  <a:cubicBezTo>
                    <a:pt x="1724" y="668"/>
                    <a:pt x="1816" y="584"/>
                    <a:pt x="1632" y="464"/>
                  </a:cubicBezTo>
                  <a:cubicBezTo>
                    <a:pt x="1448" y="344"/>
                    <a:pt x="800" y="64"/>
                    <a:pt x="528" y="32"/>
                  </a:cubicBezTo>
                  <a:cubicBezTo>
                    <a:pt x="256" y="0"/>
                    <a:pt x="96" y="232"/>
                    <a:pt x="0" y="2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86600" y="2209680"/>
            <a:ext cx="7216920" cy="1801080"/>
            <a:chOff x="786600" y="2209680"/>
            <a:chExt cx="7216920" cy="1801080"/>
          </a:xfrm>
        </p:grpSpPr>
        <p:sp>
          <p:nvSpPr>
            <p:cNvPr id="233" name=""/>
            <p:cNvSpPr/>
            <p:nvPr/>
          </p:nvSpPr>
          <p:spPr>
            <a:xfrm>
              <a:off x="786600" y="2819520"/>
              <a:ext cx="7216920" cy="119124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family tree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is eith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1) emp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2) a node consisting of a name, a family tree for the mother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d a family tree for the father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86000" y="2311560"/>
              <a:ext cx="3352680" cy="1269720"/>
            </a:xfrm>
            <a:custGeom>
              <a:avLst/>
              <a:gdLst/>
              <a:ahLst/>
              <a:rect l="l" t="t" r="r" b="b"/>
              <a:pathLst>
                <a:path w="2112" h="800">
                  <a:moveTo>
                    <a:pt x="2112" y="800"/>
                  </a:moveTo>
                  <a:cubicBezTo>
                    <a:pt x="1472" y="480"/>
                    <a:pt x="832" y="160"/>
                    <a:pt x="480" y="80"/>
                  </a:cubicBezTo>
                  <a:cubicBezTo>
                    <a:pt x="128" y="0"/>
                    <a:pt x="64" y="160"/>
                    <a:pt x="0" y="3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28800" y="2209680"/>
              <a:ext cx="1295280" cy="152424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816" y="960"/>
                  </a:moveTo>
                  <a:cubicBezTo>
                    <a:pt x="620" y="576"/>
                    <a:pt x="424" y="192"/>
                    <a:pt x="288" y="96"/>
                  </a:cubicBezTo>
                  <a:cubicBezTo>
                    <a:pt x="152" y="0"/>
                    <a:pt x="48" y="336"/>
                    <a:pt x="0" y="38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43080" y="4178160"/>
            <a:ext cx="6395040" cy="2210040"/>
            <a:chOff x="343080" y="4178160"/>
            <a:chExt cx="6395040" cy="2210040"/>
          </a:xfrm>
        </p:grpSpPr>
        <p:sp>
          <p:nvSpPr>
            <p:cNvPr id="237" name=""/>
            <p:cNvSpPr/>
            <p:nvPr/>
          </p:nvSpPr>
          <p:spPr>
            <a:xfrm>
              <a:off x="796320" y="4648320"/>
              <a:ext cx="5941800" cy="173988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directory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has a name, a size, and a directory list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directory listing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is eith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1) emp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2) a directory followed by directory list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3) a file followed by a directory list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14600" y="4876920"/>
              <a:ext cx="3200400" cy="380880"/>
            </a:xfrm>
            <a:custGeom>
              <a:avLst/>
              <a:gdLst/>
              <a:ahLst/>
              <a:rect l="l" t="t" r="r" b="b"/>
              <a:pathLst>
                <a:path w="2016" h="240">
                  <a:moveTo>
                    <a:pt x="2016" y="0"/>
                  </a:moveTo>
                  <a:cubicBezTo>
                    <a:pt x="1440" y="52"/>
                    <a:pt x="864" y="104"/>
                    <a:pt x="528" y="144"/>
                  </a:cubicBezTo>
                  <a:cubicBezTo>
                    <a:pt x="192" y="184"/>
                    <a:pt x="88" y="224"/>
                    <a:pt x="0" y="2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3080" y="4178160"/>
              <a:ext cx="2095200" cy="1689120"/>
            </a:xfrm>
            <a:custGeom>
              <a:avLst/>
              <a:gdLst/>
              <a:ahLst/>
              <a:rect l="l" t="t" r="r" b="b"/>
              <a:pathLst>
                <a:path w="1320" h="1064">
                  <a:moveTo>
                    <a:pt x="1320" y="1064"/>
                  </a:moveTo>
                  <a:cubicBezTo>
                    <a:pt x="872" y="1064"/>
                    <a:pt x="424" y="1064"/>
                    <a:pt x="216" y="920"/>
                  </a:cubicBezTo>
                  <a:cubicBezTo>
                    <a:pt x="8" y="776"/>
                    <a:pt x="0" y="352"/>
                    <a:pt x="72" y="200"/>
                  </a:cubicBezTo>
                  <a:cubicBezTo>
                    <a:pt x="144" y="48"/>
                    <a:pt x="512" y="0"/>
                    <a:pt x="648" y="8"/>
                  </a:cubicBezTo>
                  <a:cubicBezTo>
                    <a:pt x="784" y="16"/>
                    <a:pt x="836" y="132"/>
                    <a:pt x="888" y="24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itrarily Large Data and Data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1800" y="1905120"/>
            <a:ext cx="3670920" cy="1739880"/>
            <a:chOff x="451800" y="1905120"/>
            <a:chExt cx="3670920" cy="1739880"/>
          </a:xfrm>
        </p:grpSpPr>
        <p:sp>
          <p:nvSpPr>
            <p:cNvPr id="242" name=""/>
            <p:cNvSpPr/>
            <p:nvPr/>
          </p:nvSpPr>
          <p:spPr>
            <a:xfrm>
              <a:off x="451800" y="1905120"/>
              <a:ext cx="3670920" cy="1739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FUN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atatype FT = emp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|  node (name: String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ather: F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ther: 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76520" y="2197080"/>
              <a:ext cx="2209680" cy="1003320"/>
            </a:xfrm>
            <a:custGeom>
              <a:avLst/>
              <a:gdLst/>
              <a:ahLst/>
              <a:rect l="l" t="t" r="r" b="b"/>
              <a:pathLst>
                <a:path w="1392" h="632">
                  <a:moveTo>
                    <a:pt x="1344" y="632"/>
                  </a:moveTo>
                  <a:cubicBezTo>
                    <a:pt x="1368" y="492"/>
                    <a:pt x="1392" y="352"/>
                    <a:pt x="1248" y="248"/>
                  </a:cubicBezTo>
                  <a:cubicBezTo>
                    <a:pt x="1104" y="144"/>
                    <a:pt x="688" y="16"/>
                    <a:pt x="480" y="8"/>
                  </a:cubicBezTo>
                  <a:cubicBezTo>
                    <a:pt x="272" y="0"/>
                    <a:pt x="136" y="100"/>
                    <a:pt x="0" y="2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120" y="2336760"/>
              <a:ext cx="1752480" cy="1092240"/>
            </a:xfrm>
            <a:custGeom>
              <a:avLst/>
              <a:gdLst/>
              <a:ahLst/>
              <a:rect l="l" t="t" r="r" b="b"/>
              <a:pathLst>
                <a:path w="1104" h="688">
                  <a:moveTo>
                    <a:pt x="1104" y="688"/>
                  </a:moveTo>
                  <a:cubicBezTo>
                    <a:pt x="988" y="456"/>
                    <a:pt x="872" y="224"/>
                    <a:pt x="720" y="112"/>
                  </a:cubicBezTo>
                  <a:cubicBezTo>
                    <a:pt x="568" y="0"/>
                    <a:pt x="312" y="16"/>
                    <a:pt x="192" y="16"/>
                  </a:cubicBezTo>
                  <a:cubicBezTo>
                    <a:pt x="72" y="16"/>
                    <a:pt x="36" y="64"/>
                    <a:pt x="0" y="11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70120" y="1905120"/>
            <a:ext cx="3312720" cy="3111480"/>
            <a:chOff x="5370120" y="1905120"/>
            <a:chExt cx="3312720" cy="3111480"/>
          </a:xfrm>
        </p:grpSpPr>
        <p:sp>
          <p:nvSpPr>
            <p:cNvPr id="246" name=""/>
            <p:cNvSpPr/>
            <p:nvPr/>
          </p:nvSpPr>
          <p:spPr>
            <a:xfrm>
              <a:off x="5370120" y="1905120"/>
              <a:ext cx="3312720" cy="311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OOP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terface FT {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Empty implements FT {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Node(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name : String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ather : FT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ther: FT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mplements FT  {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05720" y="2158920"/>
              <a:ext cx="825480" cy="2032200"/>
            </a:xfrm>
            <a:custGeom>
              <a:avLst/>
              <a:gdLst/>
              <a:ahLst/>
              <a:rect l="l" t="t" r="r" b="b"/>
              <a:pathLst>
                <a:path w="520" h="1280">
                  <a:moveTo>
                    <a:pt x="0" y="1280"/>
                  </a:moveTo>
                  <a:cubicBezTo>
                    <a:pt x="220" y="904"/>
                    <a:pt x="440" y="528"/>
                    <a:pt x="480" y="320"/>
                  </a:cubicBezTo>
                  <a:cubicBezTo>
                    <a:pt x="520" y="112"/>
                    <a:pt x="320" y="64"/>
                    <a:pt x="240" y="32"/>
                  </a:cubicBezTo>
                  <a:cubicBezTo>
                    <a:pt x="160" y="0"/>
                    <a:pt x="40" y="112"/>
                    <a:pt x="0" y="12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8000" y="2120760"/>
              <a:ext cx="1168560" cy="2451240"/>
            </a:xfrm>
            <a:custGeom>
              <a:avLst/>
              <a:gdLst/>
              <a:ahLst/>
              <a:rect l="l" t="t" r="r" b="b"/>
              <a:pathLst>
                <a:path w="736" h="1544">
                  <a:moveTo>
                    <a:pt x="0" y="1544"/>
                  </a:moveTo>
                  <a:cubicBezTo>
                    <a:pt x="304" y="1020"/>
                    <a:pt x="608" y="496"/>
                    <a:pt x="672" y="248"/>
                  </a:cubicBezTo>
                  <a:cubicBezTo>
                    <a:pt x="736" y="0"/>
                    <a:pt x="488" y="64"/>
                    <a:pt x="384" y="56"/>
                  </a:cubicBezTo>
                  <a:cubicBezTo>
                    <a:pt x="280" y="48"/>
                    <a:pt x="164" y="124"/>
                    <a:pt x="48" y="2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itrarily Large Data and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28120" y="1295280"/>
            <a:ext cx="3670920" cy="3934440"/>
            <a:chOff x="528120" y="1295280"/>
            <a:chExt cx="3670920" cy="3934440"/>
          </a:xfrm>
        </p:grpSpPr>
        <p:sp>
          <p:nvSpPr>
            <p:cNvPr id="251" name=""/>
            <p:cNvSpPr/>
            <p:nvPr/>
          </p:nvSpPr>
          <p:spPr>
            <a:xfrm>
              <a:off x="528120" y="1295280"/>
              <a:ext cx="3670920" cy="3934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FUN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atatype FT = emp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|  node (name: String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ather: F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ther: 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pth :  FT -&gt;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pth(a_ft: FT)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ase a_ft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mpty: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node: depth(a_ft.fath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+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pth(a_ft.moth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43000" y="3048120"/>
              <a:ext cx="1892160" cy="1447560"/>
            </a:xfrm>
            <a:custGeom>
              <a:avLst/>
              <a:gdLst/>
              <a:ahLst/>
              <a:rect l="l" t="t" r="r" b="b"/>
              <a:pathLst>
                <a:path w="1192" h="912">
                  <a:moveTo>
                    <a:pt x="576" y="912"/>
                  </a:moveTo>
                  <a:cubicBezTo>
                    <a:pt x="884" y="792"/>
                    <a:pt x="1192" y="672"/>
                    <a:pt x="1152" y="528"/>
                  </a:cubicBezTo>
                  <a:cubicBezTo>
                    <a:pt x="1112" y="384"/>
                    <a:pt x="528" y="96"/>
                    <a:pt x="336" y="48"/>
                  </a:cubicBezTo>
                  <a:cubicBezTo>
                    <a:pt x="144" y="0"/>
                    <a:pt x="56" y="208"/>
                    <a:pt x="0" y="24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47920" y="2921040"/>
              <a:ext cx="1981080" cy="2031840"/>
            </a:xfrm>
            <a:custGeom>
              <a:avLst/>
              <a:gdLst/>
              <a:ahLst/>
              <a:rect l="l" t="t" r="r" b="b"/>
              <a:pathLst>
                <a:path w="1248" h="1280">
                  <a:moveTo>
                    <a:pt x="432" y="1280"/>
                  </a:moveTo>
                  <a:cubicBezTo>
                    <a:pt x="840" y="1116"/>
                    <a:pt x="1248" y="952"/>
                    <a:pt x="1248" y="752"/>
                  </a:cubicBezTo>
                  <a:cubicBezTo>
                    <a:pt x="1248" y="552"/>
                    <a:pt x="640" y="160"/>
                    <a:pt x="432" y="80"/>
                  </a:cubicBezTo>
                  <a:cubicBezTo>
                    <a:pt x="224" y="0"/>
                    <a:pt x="112" y="136"/>
                    <a:pt x="0" y="27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884120" y="1270080"/>
            <a:ext cx="3993840" cy="4782600"/>
            <a:chOff x="4884120" y="1270080"/>
            <a:chExt cx="3993840" cy="4782600"/>
          </a:xfrm>
        </p:grpSpPr>
        <p:sp>
          <p:nvSpPr>
            <p:cNvPr id="255" name=""/>
            <p:cNvSpPr/>
            <p:nvPr/>
          </p:nvSpPr>
          <p:spPr>
            <a:xfrm>
              <a:off x="4884120" y="1295280"/>
              <a:ext cx="3993840" cy="47574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OOP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terface FT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pth: -&gt; Number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Empty implements FT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pth( ) {  0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Node(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name : String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ather : FT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ther: FT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mplements FT 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pth(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ather.depth() + mother.depth()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1320" y="1486080"/>
              <a:ext cx="1765080" cy="4305240"/>
            </a:xfrm>
            <a:custGeom>
              <a:avLst/>
              <a:gdLst/>
              <a:ahLst/>
              <a:rect l="l" t="t" r="r" b="b"/>
              <a:pathLst>
                <a:path w="1112" h="2712">
                  <a:moveTo>
                    <a:pt x="384" y="2712"/>
                  </a:moveTo>
                  <a:cubicBezTo>
                    <a:pt x="600" y="2416"/>
                    <a:pt x="816" y="2120"/>
                    <a:pt x="912" y="1704"/>
                  </a:cubicBezTo>
                  <a:cubicBezTo>
                    <a:pt x="1008" y="1288"/>
                    <a:pt x="1112" y="432"/>
                    <a:pt x="960" y="216"/>
                  </a:cubicBezTo>
                  <a:cubicBezTo>
                    <a:pt x="808" y="0"/>
                    <a:pt x="404" y="204"/>
                    <a:pt x="0" y="40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95880" y="1270080"/>
              <a:ext cx="2286000" cy="4521240"/>
            </a:xfrm>
            <a:custGeom>
              <a:avLst/>
              <a:gdLst/>
              <a:ahLst/>
              <a:rect l="l" t="t" r="r" b="b"/>
              <a:pathLst>
                <a:path w="1440" h="2848">
                  <a:moveTo>
                    <a:pt x="912" y="2848"/>
                  </a:moveTo>
                  <a:cubicBezTo>
                    <a:pt x="1004" y="2796"/>
                    <a:pt x="1096" y="2744"/>
                    <a:pt x="1152" y="2320"/>
                  </a:cubicBezTo>
                  <a:cubicBezTo>
                    <a:pt x="1208" y="1896"/>
                    <a:pt x="1440" y="608"/>
                    <a:pt x="1248" y="304"/>
                  </a:cubicBezTo>
                  <a:cubicBezTo>
                    <a:pt x="1056" y="0"/>
                    <a:pt x="528" y="248"/>
                    <a:pt x="0" y="49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cus of OO and Functional Computation: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523880" y="1981080"/>
            <a:ext cx="5715000" cy="914400"/>
            <a:chOff x="1523880" y="1981080"/>
            <a:chExt cx="5715000" cy="914400"/>
          </a:xfrm>
        </p:grpSpPr>
        <p:sp>
          <p:nvSpPr>
            <p:cNvPr id="47" name=""/>
            <p:cNvSpPr/>
            <p:nvPr/>
          </p:nvSpPr>
          <p:spPr>
            <a:xfrm>
              <a:off x="1523880" y="1981080"/>
              <a:ext cx="57150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602360" y="2057400"/>
              <a:ext cx="5483880" cy="685800"/>
              <a:chOff x="1602360" y="2057400"/>
              <a:chExt cx="5483880" cy="685800"/>
            </a:xfrm>
          </p:grpSpPr>
          <p:sp>
            <p:nvSpPr>
              <p:cNvPr id="49" name=""/>
              <p:cNvSpPr/>
              <p:nvPr/>
            </p:nvSpPr>
            <p:spPr>
              <a:xfrm>
                <a:off x="2665080" y="2057400"/>
                <a:ext cx="91440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833280" y="2057400"/>
                <a:ext cx="91440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001840" y="2057400"/>
                <a:ext cx="91440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171840" y="2057400"/>
                <a:ext cx="91440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602360" y="2057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A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605520" y="3733920"/>
            <a:ext cx="7992720" cy="1557000"/>
            <a:chOff x="605520" y="3733920"/>
            <a:chExt cx="7992720" cy="1557000"/>
          </a:xfrm>
        </p:grpSpPr>
        <p:sp>
          <p:nvSpPr>
            <p:cNvPr id="55" name=""/>
            <p:cNvSpPr/>
            <p:nvPr/>
          </p:nvSpPr>
          <p:spPr>
            <a:xfrm>
              <a:off x="605520" y="3733920"/>
              <a:ext cx="3606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O Computation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nipulate data by send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 message to an object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aiting for an 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23440" y="3733920"/>
              <a:ext cx="35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P Computation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pply a primitive oper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o a piece of dat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133720" y="5867280"/>
            <a:ext cx="48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How can these two views possibly be rela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itrarily Large Data: the Interpreter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8640" y="1752480"/>
            <a:ext cx="3461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yout data type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clause per var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construct each var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natural recur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ispatch via cas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21520" y="1752480"/>
            <a:ext cx="3461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yout data type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clause per var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construct (implic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natural recurs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Program Design: More Similar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tually recursive data defini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llel processing of arbitrarily large pieces of data (multi-methods, parallel recurs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table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ing track of “histor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hanging “histor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urrency/paralle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unching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a b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a graphical interaction (modal or reactive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a de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514600" y="188604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ing Programs:  Via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0680" y="25146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rop-down 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42360" y="10987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181480" y="1447920"/>
            <a:ext cx="99072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3048120"/>
            <a:ext cx="12193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ing Programs: Via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9600" y="1219320"/>
            <a:ext cx="369504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 Callback = Event GUI -&gt; 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tton1 : Ca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tton1(e: Event, go : GUI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u1 : Ca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u1(e : Event, go : GUI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Menu(… menu1 …) 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Button(… button1 …) 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4680" y="1219320"/>
            <a:ext cx="4374720" cy="5031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ace Callback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ecute :  Event GUI -&gt; void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Button1 (  ) implements Callback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ecute(e: Event, go : GU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Menu1 (  ) implements Callback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ecute(e : Event, go : GUI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…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 Menu(… Menu1( ) …) 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 Button(… Button1( ) …)  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ing Programs: the Command Patter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parate “view” from “mode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e callback fun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FUN: use clos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OOPS: use instances of commands               (new ~ lambda, execute ~ appl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data from GUI elements using methods based on structural design, “history” design, ...  modal or reactive processing 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ion (That’s not an UGLY word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tracting is “editing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tracting means factoring out common pie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tracting helps maintaining cod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 to comprehend code/invariant o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x errors o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e code once (algorithmic, styl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 functionality o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tracting affects the “bottom lin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ftware engineers: “single point of control”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ion in FUN: Abstrac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0840" y="3733920"/>
            <a:ext cx="420696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M : list-of-numbers -&gt;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M(a_list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se a_lis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ty 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s:     a_list.first + SUM(a_list.r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05720" y="3733920"/>
            <a:ext cx="391896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 : list-of-numbers -&gt;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(a_list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se a_lis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ty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s:     a_list.first * PI(a_list.r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286000" y="1295280"/>
            <a:ext cx="4572000" cy="2438640"/>
            <a:chOff x="2286000" y="1295280"/>
            <a:chExt cx="4572000" cy="2438640"/>
          </a:xfrm>
        </p:grpSpPr>
        <p:grpSp>
          <p:nvGrpSpPr>
            <p:cNvPr id="280" name=""/>
            <p:cNvGrpSpPr/>
            <p:nvPr/>
          </p:nvGrpSpPr>
          <p:grpSpPr>
            <a:xfrm>
              <a:off x="2526120" y="1295280"/>
              <a:ext cx="4123440" cy="1465560"/>
              <a:chOff x="2526120" y="1295280"/>
              <a:chExt cx="4123440" cy="1465560"/>
            </a:xfrm>
          </p:grpSpPr>
          <p:sp>
            <p:nvSpPr>
              <p:cNvPr id="281" name=""/>
              <p:cNvSpPr/>
              <p:nvPr/>
            </p:nvSpPr>
            <p:spPr>
              <a:xfrm>
                <a:off x="2526120" y="1295280"/>
                <a:ext cx="4123440" cy="1465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F(a_list) =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case a_list o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empty :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cons:     a_list.first  +  F(a_list.res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62520" y="1905120"/>
                <a:ext cx="4572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29200" y="2133720"/>
                <a:ext cx="22860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2286000" y="2819520"/>
              <a:ext cx="22860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572000" y="2819520"/>
              <a:ext cx="22860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ion in FUN: Specializ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1130400"/>
            <a:ext cx="66294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KE : num (num num -&gt; num) -&gt; (list-of-numbers -&gt;nu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KE(base, combine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 F(a_list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se a_lis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ty :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s:    combine( a_list.first  ,  F(a_list.res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40120" y="3429000"/>
            <a:ext cx="7999920" cy="2288520"/>
            <a:chOff x="240120" y="3429000"/>
            <a:chExt cx="7999920" cy="2288520"/>
          </a:xfrm>
        </p:grpSpPr>
        <p:sp>
          <p:nvSpPr>
            <p:cNvPr id="289" name=""/>
            <p:cNvSpPr/>
            <p:nvPr/>
          </p:nvSpPr>
          <p:spPr>
            <a:xfrm>
              <a:off x="240120" y="4800600"/>
              <a:ext cx="3690360" cy="916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UM : list-of-numbers -&gt;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UM = MAKE(0,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33000" y="4800600"/>
              <a:ext cx="3407040" cy="916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I : list-of-numbers -&gt;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I = MAKE(1,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133360" y="3429000"/>
              <a:ext cx="2438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000" y="3429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0" y="3429000"/>
              <a:ext cx="1981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ion in OOPS: Abstrac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8760" y="3429000"/>
            <a:ext cx="3774240" cy="28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art (x: double, y: doubl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uble distance_to_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…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thing with square 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squares of x and y 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ol closer_to(pt : Poin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.distance_to_O(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.distance_to_O()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24000" y="3429000"/>
            <a:ext cx="4379400" cy="28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Manhattan(x: double, y: doubl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uble distance_to_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…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thing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and y 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ol closer_to(pt : Poin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.distance_to_O(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.distance_to_O()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57200" y="990720"/>
            <a:ext cx="8686440" cy="2438280"/>
            <a:chOff x="457200" y="990720"/>
            <a:chExt cx="8686440" cy="2438280"/>
          </a:xfrm>
        </p:grpSpPr>
        <p:sp>
          <p:nvSpPr>
            <p:cNvPr id="298" name=""/>
            <p:cNvSpPr/>
            <p:nvPr/>
          </p:nvSpPr>
          <p:spPr>
            <a:xfrm>
              <a:off x="2326680" y="990720"/>
              <a:ext cx="4641480" cy="2014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bstract class Cart (x: double, y: double)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ool closer_to(pt : Point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his.distance_to_O(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&lt;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t.distance_to_O()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0400" y="1447920"/>
              <a:ext cx="2743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57200" y="1981080"/>
              <a:ext cx="190512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009920" y="1981080"/>
              <a:ext cx="213372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ion in OOPS: Speciali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04720" y="990720"/>
            <a:ext cx="483948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bstract class PointA(x: double, y: doubl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bstract double distance_to_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ol closer_to(pt : Poin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.distance_to_O(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.distance_to_O()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21120" y="3429000"/>
            <a:ext cx="8652960" cy="3187800"/>
            <a:chOff x="321120" y="3429000"/>
            <a:chExt cx="8652960" cy="3187800"/>
          </a:xfrm>
        </p:grpSpPr>
        <p:sp>
          <p:nvSpPr>
            <p:cNvPr id="305" name=""/>
            <p:cNvSpPr/>
            <p:nvPr/>
          </p:nvSpPr>
          <p:spPr>
            <a:xfrm>
              <a:off x="321120" y="4876920"/>
              <a:ext cx="3774240" cy="1739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Cart (x: double, y: double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extends PointA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ouble distance_to_O(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…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omething with square ro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d squares of x and y …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0600" y="4876920"/>
              <a:ext cx="4173480" cy="1739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Manhattan(x: double, y: doubl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extends PointA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ouble distance_to_O(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…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omething wit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 and y …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2000" y="34290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905120" y="4038480"/>
              <a:ext cx="2666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572000" y="4038480"/>
              <a:ext cx="2666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38880" y="4038480"/>
              <a:ext cx="0" cy="83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05120" y="4038480"/>
              <a:ext cx="0" cy="83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Simple Languages: FUN and O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 is (like ML/Schem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ic data: numbers 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tion defin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ressions, includ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mitives: +, -, 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dition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tion appl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c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g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OPS is (like Java/Eiffe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ic data: numbers 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 definitions, interfa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hod defin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ressions, includ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mitives: +, -,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dition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hod appl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c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g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ion: Inheritance and the Template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similar pieces of code, differ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bst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FUN: use higher-order function, appl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OOPS: use inheritance, the Template patte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most class extension use same hook, make it the default and use overri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rehending Code:  Many 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6320" y="1219320"/>
            <a:ext cx="351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A-expression (A) is ei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numeric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n addition: A +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subtraction: A -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multiplication: A *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division: A /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n exponentiation: A **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28600" y="4191120"/>
            <a:ext cx="8915400" cy="1447560"/>
            <a:chOff x="228600" y="4191120"/>
            <a:chExt cx="8915400" cy="1447560"/>
          </a:xfrm>
        </p:grpSpPr>
        <p:sp>
          <p:nvSpPr>
            <p:cNvPr id="317" name=""/>
            <p:cNvSpPr/>
            <p:nvPr/>
          </p:nvSpPr>
          <p:spPr>
            <a:xfrm>
              <a:off x="4114800" y="419112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71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14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0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43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86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29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4876920"/>
              <a:ext cx="8534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2000" y="457200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48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28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71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14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57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0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43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86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28600" y="5562720"/>
            <a:ext cx="89154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rehending Code: the Visitor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12952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14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3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29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1981080"/>
            <a:ext cx="8534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0" y="16765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09480" y="1981080"/>
            <a:ext cx="8077320" cy="381240"/>
            <a:chOff x="609480" y="1981080"/>
            <a:chExt cx="8077320" cy="381240"/>
          </a:xfrm>
        </p:grpSpPr>
        <p:sp>
          <p:nvSpPr>
            <p:cNvPr id="350" name=""/>
            <p:cNvSpPr/>
            <p:nvPr/>
          </p:nvSpPr>
          <p:spPr>
            <a:xfrm>
              <a:off x="60948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28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1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14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57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00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43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686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09480" y="2743200"/>
            <a:ext cx="8077320" cy="380880"/>
            <a:chOff x="609480" y="2743200"/>
            <a:chExt cx="8077320" cy="380880"/>
          </a:xfrm>
        </p:grpSpPr>
        <p:sp>
          <p:nvSpPr>
            <p:cNvPr id="359" name=""/>
            <p:cNvSpPr/>
            <p:nvPr/>
          </p:nvSpPr>
          <p:spPr>
            <a:xfrm>
              <a:off x="60948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28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4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57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00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43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86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781680" y="3962520"/>
            <a:ext cx="190512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3124080"/>
            <a:ext cx="6172200" cy="266724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3124080"/>
            <a:ext cx="4952880" cy="21337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71800" y="3124080"/>
            <a:ext cx="3809880" cy="160020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3124080"/>
            <a:ext cx="2666880" cy="106704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53240" y="4038480"/>
            <a:ext cx="109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_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_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rehending Code: the Visitor Pattern vs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9120" y="1752480"/>
            <a:ext cx="3667680" cy="28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A_Visitor(…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variables(x: variable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numbers(c: number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plus(l: A, r: A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minus(l: A, r: A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times(l: A, r: A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division(l: A, r: A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exp(l: A, r: A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42320" y="1752480"/>
            <a:ext cx="2296080" cy="28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n_for_A (x : A …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se x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riabl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mber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us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nus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mes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ision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rehension: Understanding “Functional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 those pieces of code that perform a f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body of c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FUN: functions and case do it natur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OOPS: use call-forwarding and the           Visitor  patte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ack Box Extensibility: Adding 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6320" y="1219320"/>
            <a:ext cx="351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A-expression (A) is ei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numeric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n addition: A +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subtraction: A -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multiplication: A *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division: A /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n exponentiation: A **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14800" y="41911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14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00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4876920"/>
            <a:ext cx="6934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48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7180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0080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77800" y="129528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here are more A-express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- a sin-expression: sin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620120" y="4876920"/>
            <a:ext cx="1523880" cy="761760"/>
            <a:chOff x="7620120" y="4876920"/>
            <a:chExt cx="1523880" cy="761760"/>
          </a:xfrm>
        </p:grpSpPr>
        <p:sp>
          <p:nvSpPr>
            <p:cNvPr id="399" name=""/>
            <p:cNvSpPr/>
            <p:nvPr/>
          </p:nvSpPr>
          <p:spPr>
            <a:xfrm>
              <a:off x="8229600" y="5257800"/>
              <a:ext cx="91440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20120" y="4876920"/>
              <a:ext cx="11430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3120" y="4876920"/>
              <a:ext cx="0" cy="45720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ack Box Extensibility: Adding or Modifying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6320" y="1219320"/>
            <a:ext cx="351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A-expression (A) is ei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numeric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n addition: A +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subtraction: A -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multiplication: A *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division: A /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n exponentiation: A **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14800" y="41911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41680" y="1295280"/>
            <a:ext cx="453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We may want more methods th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the original product provides or 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may wish slightly different functiona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28600" y="4876920"/>
            <a:ext cx="8915400" cy="761760"/>
            <a:chOff x="228600" y="4876920"/>
            <a:chExt cx="8915400" cy="761760"/>
          </a:xfrm>
        </p:grpSpPr>
        <p:sp>
          <p:nvSpPr>
            <p:cNvPr id="408" name=""/>
            <p:cNvSpPr/>
            <p:nvPr/>
          </p:nvSpPr>
          <p:spPr>
            <a:xfrm>
              <a:off x="228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1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14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57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00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43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6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4876920"/>
              <a:ext cx="6934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948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28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71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14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57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00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43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620120" y="4876920"/>
              <a:ext cx="1523880" cy="761760"/>
              <a:chOff x="7620120" y="4876920"/>
              <a:chExt cx="1523880" cy="761760"/>
            </a:xfrm>
          </p:grpSpPr>
          <p:sp>
            <p:nvSpPr>
              <p:cNvPr id="424" name=""/>
              <p:cNvSpPr/>
              <p:nvPr/>
            </p:nvSpPr>
            <p:spPr>
              <a:xfrm>
                <a:off x="8229600" y="5257800"/>
                <a:ext cx="914400" cy="380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20120" y="4876920"/>
                <a:ext cx="114300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763120" y="4876920"/>
                <a:ext cx="0" cy="45720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228600" y="5638680"/>
            <a:ext cx="8915400" cy="762120"/>
            <a:chOff x="228600" y="5638680"/>
            <a:chExt cx="8915400" cy="762120"/>
          </a:xfrm>
        </p:grpSpPr>
        <p:sp>
          <p:nvSpPr>
            <p:cNvPr id="428" name=""/>
            <p:cNvSpPr/>
            <p:nvPr/>
          </p:nvSpPr>
          <p:spPr>
            <a:xfrm>
              <a:off x="228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71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14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57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43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86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948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880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97180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480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5780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0080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4380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29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63120" y="5638680"/>
              <a:ext cx="0" cy="45720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ack Box Extensibility: More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f we want visitors?                      Krishnamurthi, Felleisen &amp; Friedman ECOOP 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f we have modules?                                  Flatt &amp; Findler ICFP 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it useful?                                                       Kathi Bohrer (IBM) San Francisco Project       SYSTEMS Journal 9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bility in the Function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ing functions to a “black box” -- ea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ing new variants to a “black box” -- difficu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ke OO programming with protocols:      Krishnamurthi and Felleisen FSE98                     Hudak and Liang POPL 95                             Felleisen and Cartwright TACS 94                     Steele POPL9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inner: What’s better and Why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Sample Programs (in lieu of Grammar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3440" y="2089080"/>
            <a:ext cx="387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List = emp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 cons(first:int,rest:Li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d1*(l:List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se l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ty :  vo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s :     l.first := l.first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d1*(l.r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6240" y="2089080"/>
            <a:ext cx="348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ace List { add1* : -&gt; void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Empty implements Li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add1*() {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ons(first:int, rest:Li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 Li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add1*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rst := first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t.add1*(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inner: A Compari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data-centered, safe model of comput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data-centered model of program desig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ich “theory of programs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data-centered, safe model of compu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data-centered model of program desig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ich “practice of patterns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1325520" y="4495680"/>
            <a:ext cx="6578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t the amazing surprise: the “theory” and the “practic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d to nearly indistinguishable program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data layout induces program lay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iteration patterns or iterator fun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few (true) assignments to reflect “real world” chan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history or 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objects as “multi-bodied, multi-entry” clo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53600" y="109872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17680" y="109872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O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inner: Default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342900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tions with many paramet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tran: entry poi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on LISP: by-keyw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eme: rest argu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ez: case-lambd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 there is also Curry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52880" y="3429000"/>
            <a:ext cx="3810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es with many default methods and instance variab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rived classes that override just those few that need to be modifi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>
            <a:off x="1369440" y="281952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57200" y="281952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O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8480" y="1174680"/>
            <a:ext cx="72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web server has 27 different parameters that can be tuned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do you tune them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inner: Extensible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160" y="342900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x programming protocol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lem with standard ty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-typing works just f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52880" y="3429000"/>
            <a:ext cx="3810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ault strategi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tensibility patterns (hook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rived classes that override just those strategies that need to be modifi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1369440" y="281952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57200" y="281952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O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3600" y="1174680"/>
            <a:ext cx="85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product should accommodate 435 business strategies in 47 countries 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do you accommodate them all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inner: There isn’t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 and FUN are equivalent for many situ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 has a much richer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 provides the practical examp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Comparison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s “lambda”, which means it is simpler to abstr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tions are easier to compreh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s “currying”, which makes up for the short-comings on extensibi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eme has mac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O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accommodate many defaults easil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good for producing extensible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ks “functions” and demands visi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What? How does this Help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ming: design, reasoning about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nguage research: theory and imple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ucation: what to teach and how to teach i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ing and Program 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tern mining:                                         functional programmers have contemplated the meta-level for much longer than oo program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c mining:                                        programming in a functional style facilitates reasoning about programs; it is easy and natural to program “functionally” in an oo languag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guage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theory: parametric polymorphism, mo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 analysis: abstract interpre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ation: closures are simple objects, functional programming environments are semantically more sophisticated than OO environments (repl, module manag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ucation: FUN first, OOPS la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al programming is syntactically simpler than object-oriented programm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al programming is more natural than object-oriented programming: append(list1,list2)  versus  list1.append(list2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al programming is traditionally more interactive than object-oriented programming (rep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al programming and object-oriented programming are closely relat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 differences should lead to important synergie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us take a closer look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putational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6480" y="1143000"/>
            <a:ext cx="61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Give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 pro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Wanted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 sequence of “states” that shows its behavi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2760" y="2470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61560" y="2362320"/>
            <a:ext cx="5097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rogram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quence of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datatype/functions or interface/clas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expression ( “main”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tat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a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2666880"/>
            <a:ext cx="6858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200400"/>
            <a:ext cx="6858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3809880"/>
            <a:ext cx="6858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4343400"/>
            <a:ext cx="6858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4952880"/>
            <a:ext cx="6858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429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39625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4572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 You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70080" y="1447920"/>
            <a:ext cx="264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rky Cartw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n Friedm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thew Fla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riram Krishnamurt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bby Find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30320" y="2743200"/>
            <a:ext cx="178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im Br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b Har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lph John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ott Sm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il Wad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40840" y="190512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ression  (Block)                        Expression (B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 are Static, Expressions Capture the Sta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08720" y="1870200"/>
            <a:ext cx="17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finitions 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30640" y="2101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31560" y="2819520"/>
            <a:ext cx="7094520" cy="1465560"/>
            <a:chOff x="1231560" y="2819520"/>
            <a:chExt cx="7094520" cy="1465560"/>
          </a:xfrm>
        </p:grpSpPr>
        <p:sp>
          <p:nvSpPr>
            <p:cNvPr id="82" name=""/>
            <p:cNvSpPr/>
            <p:nvPr/>
          </p:nvSpPr>
          <p:spPr>
            <a:xfrm>
              <a:off x="1231560" y="2819520"/>
              <a:ext cx="2751480" cy="1465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 = new cons(1,empt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.first :=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74600" y="2819520"/>
              <a:ext cx="2751480" cy="1465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 = new cons(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,empt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v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4800" y="342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51480" y="2819520"/>
            <a:ext cx="1320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li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80920" y="5823000"/>
            <a:ext cx="59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Definitions are well-formed according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rules of FUN and OOPS (scope, types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ng Dat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66480" y="1219320"/>
            <a:ext cx="2364480" cy="201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ew CC(x,BV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24908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87160" y="1143000"/>
            <a:ext cx="21222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z = new CC(x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3160" y="3962520"/>
            <a:ext cx="381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N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T = … CC(a:Ta, b:Tb) |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57840" y="3962520"/>
            <a:ext cx="406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OPS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C(a:Ta, b:Tb) implements 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 Piec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24908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87160" y="1143000"/>
            <a:ext cx="21222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3160" y="3962520"/>
            <a:ext cx="381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N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T = … CC(a:Ta, b:Tb) |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7840" y="3962520"/>
            <a:ext cx="406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OPS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C(a:Ta, b:Tb) implements 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9200" y="1130400"/>
            <a:ext cx="21222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z.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7:21:28Z</dcterms:created>
  <dc:creator>Matthias Felleisen</dc:creator>
  <dc:description/>
  <dc:language>en-US</dc:language>
  <cp:lastModifiedBy>Matthias Felleisen</cp:lastModifiedBy>
  <dcterms:modified xsi:type="dcterms:W3CDTF">1999-03-23T18:30:44Z</dcterms:modified>
  <cp:revision>17</cp:revision>
  <dc:subject/>
  <dc:title>Why Functional Programming Matters --- In an Object-Oriented World!</dc:title>
</cp:coreProperties>
</file>