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22D-CA21-44A8-9FB0-2B057478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5091-DD35-4FB5-A5A9-24A99094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C18-424F-4872-8B24-9CA3FD8D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D1C-60C2-48AC-8686-B79118FA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3538-2CA0-4FC9-8303-85A77934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6198-8FDC-4E76-B7D4-EDE6038D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029A-EEBC-4622-83EB-A30778BC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6B7B-6596-4392-8D8D-8B17374C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6451-8CFC-41C0-BD8B-39E82511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7CBF-F6A5-48F1-AD0E-55652010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6B28-1583-40EF-9D0B-879A957A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A08-2DEB-4FC7-A35A-632BAC74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09C1-8C91-4765-9A8E-124206A6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660E-7DE3-4B84-8BFE-52AA28FC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C404-7173-40E9-BCEF-649DB40F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40DC-7670-4D61-B3EE-35B27E96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00C2-9D34-4B97-86CB-8C1DDB4E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791-62EA-4619-8871-043B3EDD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371-4EB4-4698-9974-39EF13F5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937B-0C49-488C-94E5-8A3CFA40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BE91-0BF5-48A6-A2A0-1C2C7B44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F46-3BCC-4332-A913-A2C07D60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AEA-1FE3-4920-97B8-0E9C3D10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11A-5A7A-403A-BA7C-516EC59E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D969-9776-4263-A7A4-0E6ED2582A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5DC3-33D1-41A0-ACB9-93146E8923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heritance Anomal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ynchronization of concurrent objects and inherit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paper: [Matsuoka93] Analysis of Inheritance Anomalies in OOP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oding a base class (…)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de related to concurrency control cannot be effectively inher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/or refined in a subclas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out non-trivial redefini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methods implementation.” [C. Lopes PhD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6D4-FDCA-4DA6-9C61-AED7CDA4D83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lutions f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J Visitor to solve the Mouse prob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spectJ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specific pointcuts =&gt; simpler adv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 pointcuts =&gt; more elaborated advi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aspects =&gt;higher degree of reus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o many abstraction levels make code difficult to fol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classes =&gt; incremental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A0B-9DB4-4C98-A552-96909FA90FE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tions are very dependent on the parser for the simulation langu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OP design has hardly been used instead of OOP de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AE8-6DE3-4E03-820B-EFD3656509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 of best solu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ing from scrat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AOP design and open class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spectJ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abstract aspects for reus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fine grained definition of pointcu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94C-85DB-4537-8D08-3F92CA7CBE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eparation of core and synchronization behaviors (1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ynchronization constra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certain state an object can accept only certain methods to maintain its internal integr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unded-Buffer obje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(): if buffer not emp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t(): if buffer not fu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4120" y="3886200"/>
            <a:ext cx="36576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BC3-FA94-4348-8E28-93FFD8D5FD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eparation of core and synchronization behaviors (2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ynchronization co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ion of code where the synchronization behavior is controll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must always be consistent with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ynchronization constrai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86B-7B77-4874-959B-59D6C6EF9A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When are Inheritance Anomalies found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tion of acceptable states (Get2(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-only sensitiveness of acceptable states (Gget(), DoubleClick()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ication of acceptable states. (Loc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BED8-4A78-45E6-9301-3C7D163AC9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es AOP help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20880" y="3054240"/>
            <a:ext cx="22730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0880" y="2597040"/>
            <a:ext cx="22730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0880" y="3968640"/>
            <a:ext cx="22730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20880" y="4425840"/>
            <a:ext cx="22730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20880" y="3282840"/>
            <a:ext cx="2273040" cy="1396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20880" y="2825640"/>
            <a:ext cx="2273040" cy="1396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20880" y="4730760"/>
            <a:ext cx="2273040" cy="1396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20880" y="3511440"/>
            <a:ext cx="2273040" cy="139680"/>
          </a:xfrm>
          <a:prstGeom prst="rect">
            <a:avLst/>
          </a:prstGeom>
          <a:solidFill>
            <a:srgbClr val="cc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0880" y="4197240"/>
            <a:ext cx="2273040" cy="139680"/>
          </a:xfrm>
          <a:prstGeom prst="rect">
            <a:avLst/>
          </a:prstGeom>
          <a:solidFill>
            <a:srgbClr val="cc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20880" y="5187960"/>
            <a:ext cx="2273040" cy="139680"/>
          </a:xfrm>
          <a:prstGeom prst="rect">
            <a:avLst/>
          </a:prstGeom>
          <a:solidFill>
            <a:srgbClr val="cc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20880" y="6102360"/>
            <a:ext cx="2273040" cy="139680"/>
          </a:xfrm>
          <a:prstGeom prst="rect">
            <a:avLst/>
          </a:prstGeom>
          <a:solidFill>
            <a:srgbClr val="cc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20880" y="5416560"/>
            <a:ext cx="2273040" cy="139680"/>
          </a:xfrm>
          <a:prstGeom prst="rect">
            <a:avLst/>
          </a:prstGeom>
          <a:solidFill>
            <a:srgbClr val="cc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7720" y="1828800"/>
            <a:ext cx="2509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O prog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20880" y="5873760"/>
            <a:ext cx="22730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20880" y="5645160"/>
            <a:ext cx="2273040" cy="1396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20880" y="4959360"/>
            <a:ext cx="2273040" cy="1396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20880" y="3740040"/>
            <a:ext cx="2273040" cy="139680"/>
          </a:xfrm>
          <a:prstGeom prst="rect">
            <a:avLst/>
          </a:prstGeom>
          <a:solidFill>
            <a:srgbClr val="cc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876920" y="2438280"/>
            <a:ext cx="2273040" cy="3797280"/>
            <a:chOff x="4876920" y="2438280"/>
            <a:chExt cx="2273040" cy="3797280"/>
          </a:xfrm>
        </p:grpSpPr>
        <p:sp>
          <p:nvSpPr>
            <p:cNvPr id="115" name=""/>
            <p:cNvSpPr/>
            <p:nvPr/>
          </p:nvSpPr>
          <p:spPr>
            <a:xfrm>
              <a:off x="4876920" y="2438280"/>
              <a:ext cx="2273040" cy="1130400"/>
            </a:xfrm>
            <a:prstGeom prst="rect">
              <a:avLst/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re behavio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6920" y="3733920"/>
              <a:ext cx="2273040" cy="11300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ynchronizati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ehavi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5029200"/>
              <a:ext cx="2273040" cy="1206360"/>
            </a:xfrm>
            <a:prstGeom prst="rect">
              <a:avLst/>
            </a:prstGeom>
            <a:solidFill>
              <a:srgbClr val="cc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ther concern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elated behavio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723920" y="1676520"/>
            <a:ext cx="2509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O prog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1C3-496C-4B46-87C1-B25BCF62288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757520" y="1447560"/>
            <a:ext cx="6319440" cy="4708080"/>
            <a:chOff x="1757520" y="1447560"/>
            <a:chExt cx="6319440" cy="4708080"/>
          </a:xfrm>
        </p:grpSpPr>
        <p:sp>
          <p:nvSpPr>
            <p:cNvPr id="120" name=""/>
            <p:cNvSpPr/>
            <p:nvPr/>
          </p:nvSpPr>
          <p:spPr>
            <a:xfrm>
              <a:off x="3581280" y="1981080"/>
              <a:ext cx="11206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Mou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8080" y="3124080"/>
              <a:ext cx="1654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MouseWD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57520" y="4114800"/>
              <a:ext cx="1215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2-butt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34240" y="4114800"/>
              <a:ext cx="1215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3-butt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52680" y="4114800"/>
              <a:ext cx="10666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imes New Roman"/>
                </a:rPr>
                <a:t>Whe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4343400" y="2437920"/>
              <a:ext cx="121896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504600" y="3581280"/>
              <a:ext cx="38124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361960" y="3581280"/>
              <a:ext cx="4572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657600" y="2437920"/>
              <a:ext cx="3808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3760" y="1447920"/>
              <a:ext cx="1676520" cy="16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LeftClick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RightClick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LeftPress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LeftRelease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724280" y="1447560"/>
              <a:ext cx="609480" cy="5331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24280" y="2438280"/>
              <a:ext cx="609480" cy="6098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7760" y="4952880"/>
              <a:ext cx="1981440" cy="120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WheelClick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WheelRollUp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WheelRollDown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5880" y="5181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Times New Roman"/>
                </a:rPr>
                <a:t>MiddleClick()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047400" y="4572000"/>
              <a:ext cx="304920" cy="3808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19360" y="4572000"/>
              <a:ext cx="609840" cy="3808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29200" y="4572000"/>
              <a:ext cx="1066680" cy="60948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8160" y="4572000"/>
              <a:ext cx="1828800" cy="6094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ouble click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2880" y="129528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No inheritance anomali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21480" y="1447560"/>
            <a:ext cx="6855480" cy="4708080"/>
            <a:chOff x="1221480" y="1447560"/>
            <a:chExt cx="6855480" cy="4708080"/>
          </a:xfrm>
        </p:grpSpPr>
        <p:grpSp>
          <p:nvGrpSpPr>
            <p:cNvPr id="141" name=""/>
            <p:cNvGrpSpPr/>
            <p:nvPr/>
          </p:nvGrpSpPr>
          <p:grpSpPr>
            <a:xfrm>
              <a:off x="1221480" y="1828800"/>
              <a:ext cx="2157480" cy="1295280"/>
              <a:chOff x="1221480" y="1828800"/>
              <a:chExt cx="2157480" cy="1295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221480" y="1828800"/>
                <a:ext cx="2157480" cy="825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istory-only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related behavio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81080" y="2286000"/>
                <a:ext cx="685800" cy="83808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757520" y="1447560"/>
              <a:ext cx="6319440" cy="4708080"/>
              <a:chOff x="1757520" y="1447560"/>
              <a:chExt cx="6319440" cy="4708080"/>
            </a:xfrm>
          </p:grpSpPr>
          <p:sp>
            <p:nvSpPr>
              <p:cNvPr id="145" name=""/>
              <p:cNvSpPr/>
              <p:nvPr/>
            </p:nvSpPr>
            <p:spPr>
              <a:xfrm>
                <a:off x="3581280" y="1981080"/>
                <a:ext cx="112068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ous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368080" y="3124080"/>
                <a:ext cx="165456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ouseWD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757520" y="4114800"/>
                <a:ext cx="121536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-butt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034240" y="4114800"/>
                <a:ext cx="121536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-butt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352680" y="4114800"/>
                <a:ext cx="106668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hee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4343400" y="2437920"/>
                <a:ext cx="1218960" cy="1676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3504600" y="3581280"/>
                <a:ext cx="38124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361960" y="3581280"/>
                <a:ext cx="457200" cy="533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3657600" y="2437920"/>
                <a:ext cx="380880" cy="68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333760" y="1447920"/>
                <a:ext cx="1676520" cy="162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LeftClick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ightClick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LeftPress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LeftRelease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4724280" y="1447560"/>
                <a:ext cx="609480" cy="5331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24280" y="2438280"/>
                <a:ext cx="609480" cy="6098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7760" y="4952880"/>
                <a:ext cx="1981440" cy="1202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heelClick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heelRollUp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WheelRollDown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95880" y="5181480"/>
                <a:ext cx="198108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iddleClick();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3047400" y="4572000"/>
                <a:ext cx="30492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19360" y="4572000"/>
                <a:ext cx="60984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29200" y="4572000"/>
                <a:ext cx="106668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248160" y="4572000"/>
                <a:ext cx="1828800" cy="60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7DCD-3642-45B3-9DE2-78A2052384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ouble clicks (1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ourier New"/>
              </a:rPr>
              <a:t>aspect DoubleClick {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 MouseWDc.prevOp;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 MouseWDc.get_prevOp() {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revOp;  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priv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v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MouseWDc.set_prevOp(String op) {prevOp=op;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ff661c"/>
                </a:solidFill>
                <a:latin typeface="Arial"/>
                <a:ea typeface="Times New Roman"/>
              </a:rPr>
              <a:t>// very specific pointcuts allow us keeping the advice simple</a:t>
            </a:r>
            <a:r>
              <a:rPr b="0" lang="en-US" sz="1200" spc="-1" strike="noStrike">
                <a:solidFill>
                  <a:srgbClr val="ff0033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pointc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c(MouseWDc m): (call(* *(..))) &amp;&amp; (!call(* get*(..))) &amp;&amp; (!call(* set*(..))) &amp;&amp; target(m) &amp;&amp; !within(DoubleClick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pointc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cTB(TwoButton m): call(* *Click(..)) &amp;&amp; target(m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pointcu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cWM(WheelMouse m): (call(* LeftClick(..)) || call(* WheelClick(..))) &amp;&amp; target(m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af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MouseWDc m): pc(m) { </a:t>
            </a:r>
            <a:r>
              <a:rPr b="0" lang="en-US" sz="1200" spc="-1" strike="noStrike">
                <a:solidFill>
                  <a:srgbClr val="ff661c"/>
                </a:solidFill>
                <a:latin typeface="Arial"/>
                <a:ea typeface="Times New Roman"/>
              </a:rPr>
              <a:t>// common behavior for doublecl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 curr_op = thisJoinPoint.getSignature().toShortString(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f(m.get_prevOp()!=null &amp;&amp; m.get_prevOp().equals(curr_op)) {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f (curr_op.indexOf("LeftClick")!=-1) System.out.println("Double LeftClick detected"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 else {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f ((curr_op.indexOf("LeftClick")==-1) &amp;&amp; (curr_op.indexOf("RightClick")==-1) &amp;&amp;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curr_op.indexOf("WheelClick")==-1))  {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.set_prevOp(curr_op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581280"/>
            <a:ext cx="152280" cy="2362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AC7-B196-4BF4-899B-D88A615A6C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ouble clicks (2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af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TwoButton m): pcTB(m) { </a:t>
            </a:r>
            <a:r>
              <a:rPr b="0" lang="en-US" sz="1200" spc="-1" strike="noStrike">
                <a:solidFill>
                  <a:srgbClr val="ff661c"/>
                </a:solidFill>
                <a:latin typeface="Arial"/>
                <a:ea typeface="Times New Roman"/>
              </a:rPr>
              <a:t>// exclusive behavior for TwoButton M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 curr_op = thisJoinPoint.getSignature().toShortString(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m.get_prevOp()!=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&amp; m.get_prevOp().equals(curr_op)) {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curr_op.indexOf(</a:t>
            </a:r>
            <a:r>
              <a:rPr b="0" lang="en-US" sz="1200" spc="-1" strike="noStrike">
                <a:solidFill>
                  <a:srgbClr val="7d007d"/>
                </a:solidFill>
                <a:latin typeface="Arial"/>
                <a:ea typeface="Times New Roman"/>
              </a:rPr>
              <a:t>"RightClick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!=-1) System.out.println(</a:t>
            </a:r>
            <a:r>
              <a:rPr b="0" lang="en-US" sz="1200" spc="-1" strike="noStrike">
                <a:solidFill>
                  <a:srgbClr val="7d007d"/>
                </a:solidFill>
                <a:latin typeface="Arial"/>
                <a:ea typeface="Times New Roman"/>
              </a:rPr>
              <a:t>"Double RightClick detected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{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.set_prevOp(curr_op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af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WheelMouse m): pcWM(m) { </a:t>
            </a:r>
            <a:r>
              <a:rPr b="0" lang="en-US" sz="1200" spc="-1" strike="noStrike">
                <a:solidFill>
                  <a:srgbClr val="ff661c"/>
                </a:solidFill>
                <a:latin typeface="Arial"/>
                <a:ea typeface="Times New Roman"/>
              </a:rPr>
              <a:t>// exclusive behavior for Wheel M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 curr_op = thisJoinPoint.getSignature().toShortString(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m.get_prevOp()!=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nu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&amp; m.get_prevOp().equals(curr_op)) {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curr_op.indexOf(</a:t>
            </a:r>
            <a:r>
              <a:rPr b="0" lang="en-US" sz="1200" spc="-1" strike="noStrike">
                <a:solidFill>
                  <a:srgbClr val="7d007d"/>
                </a:solidFill>
                <a:latin typeface="Arial"/>
                <a:ea typeface="Times New Roman"/>
              </a:rPr>
              <a:t>"WheelClick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!=-1) System.out.println(</a:t>
            </a:r>
            <a:r>
              <a:rPr b="0" lang="en-US" sz="1200" spc="-1" strike="noStrike">
                <a:solidFill>
                  <a:srgbClr val="7d007d"/>
                </a:solidFill>
                <a:latin typeface="Arial"/>
                <a:ea typeface="Times New Roman"/>
              </a:rPr>
              <a:t>"Double WheelClick detected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 </a:t>
            </a:r>
            <a:r>
              <a:rPr b="0" lang="en-US" sz="1200" spc="-1" strike="noStrike">
                <a:solidFill>
                  <a:srgbClr val="0082bf"/>
                </a:solidFill>
                <a:latin typeface="Arial"/>
                <a:ea typeface="Times New Roman"/>
              </a:rPr>
              <a:t>el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{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.set_prevOp(curr_op)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} </a:t>
            </a:r>
            <a:r>
              <a:rPr b="0" lang="en-US" sz="1400" spc="-1" strike="noStrike">
                <a:solidFill>
                  <a:srgbClr val="ff661c"/>
                </a:solidFill>
                <a:latin typeface="Arial"/>
                <a:ea typeface="Times New Roman"/>
              </a:rPr>
              <a:t>// end of asp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581280"/>
            <a:ext cx="152280" cy="1676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828800"/>
            <a:ext cx="152280" cy="1676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D23-6A57-4D07-8273-53CBC0F457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Advantages of using AO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ode tangling caused by synchronization conc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 inheritance anomalies associated with concurren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level of reusa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3362 Winter'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30A-CDE5-4D5D-88E1-9651DAB25F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aura Benitez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ura</cp:lastModifiedBy>
  <dcterms:modified xsi:type="dcterms:W3CDTF">2002-03-12T17:53:01Z</dcterms:modified>
  <cp:revision>13</cp:revision>
  <dc:subject/>
  <dc:title>PowerPoint Presentation</dc:title>
</cp:coreProperties>
</file>