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A1D-703A-4B4E-AF12-A397AF11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B0-FFF1-4578-94EC-D49A9FE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F05-5508-4422-B30F-77F844FB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C37-652F-453D-905E-FDA72F3F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F197-0694-4162-AFFE-7897001B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FEA5-D69B-45BD-9A0C-AEF0D6FD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0D6-B965-4C14-A32A-8D5974CA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C80A-4DDD-4B2C-B8BA-1894EED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B151-F6BF-4869-A6C4-FAFA19B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7A65-7FB8-4A85-A673-6388986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435-4F4D-4319-97FC-DFC95D3D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83B-4FC7-4F75-9C89-FCFE1864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1799-2280-4E88-ABFD-E4D576B6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E115-D6C8-451E-99C5-BA4F3585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A84B-ABE0-4EE7-A989-0AC53362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C258-F09B-467B-A125-AD64358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D9F5-7B14-4A17-A895-666C4013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EF7-B3CD-41EA-94D6-366C43B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FB-58B6-4F49-91D9-2CFBA6F5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781-2173-489A-A980-E7F651D7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238-588F-49DE-8309-2E76567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48A-9443-463D-8CA4-294C121A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6CC-306B-4BCA-A110-B1FF1662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187-716B-4F7E-AE15-29F8306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67A-945D-44AF-A3E8-4E3C9AAEC20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E5D-C771-40FE-A66B-3B192068C96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NTFS 5.0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2895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ffrey Rich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Luis Felipe Cabr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638680"/>
            <a:ext cx="4572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Microsoft Systems Jou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by Stylianos Papariz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Quot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 quota support is build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 quo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ing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 tools that allow administrator to see every user’s quota data visual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95480" y="228600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FT Master File Tabl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ilar to FAT*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File Allocation Table the File System that Microsoft uses in DOS, Windows 95/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ually 1KB entries for every fi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le or Directory Attribu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Descrip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Root, Allocation and Bit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amed and named data 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a .BMP file and its thumbn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 and its updated vers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 disadvantage is backward compatibility with FAT, so floppy disks, cdroms don’t support this 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Hard Link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Link allows a file to have multiple path names within a singl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one header file in many pro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similar to UNIX since the POSIX subsystem requires it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You can’t make a hard link of a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le Stream Compre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FS can automatically compress all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breaks stream into compression units and then compresses every one of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Drawb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PU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it is not the default option in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parse 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25146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treams with holes i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function to Compressed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implement a Fil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ncrypted 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on from “bad” gu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ually file shows up in a “dir” command but no one can actually see its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t least one recovery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 employee can’t lock the disk when he is fired from the compan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parse Poi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a piece of code to be executed when a directory is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an be up to 16KB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creating directory j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links for directories e.g. c:\cdrom points to the actual CD-ROM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2:44:58Z</dcterms:created>
  <dc:creator>Stelios Paparizos</dc:creator>
  <dc:description/>
  <dc:language>en-US</dc:language>
  <cp:lastModifiedBy>Stelios Paparizos</cp:lastModifiedBy>
  <dcterms:modified xsi:type="dcterms:W3CDTF">1999-12-06T15:54:23Z</dcterms:modified>
  <cp:revision>12</cp:revision>
  <dc:subject/>
  <dc:title>NTFS 5.0</dc:title>
</cp:coreProperties>
</file>